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762-617D-43AF-B96E-A60B28C6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C49-2D03-4A0A-B5A5-9F006CB6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E32-AEEA-45C0-86BA-BA55453D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66D-02E4-412B-AF03-14330869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4CD-C626-4251-A484-CF9B2E3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C0F-2F53-4038-9F20-3B85A088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396-1CA2-42C0-8B9D-3A4BC567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313-ADB0-45DA-BA34-F7F2022E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232-D10A-4074-8222-C1581F3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29F-BE13-4A2A-9238-113DFCD7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726-51B5-4615-A3F7-A064298E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2BF-F757-4AD1-8805-3357E1C6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F266E-7BFF-4B5D-8C50-5A9C67161F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1B63E-097D-443E-84DD-8A957F9F2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 museum projec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ian Traut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02920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4343400"/>
            <a:ext cx="31971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76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vis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show th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cre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pe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joy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pictur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ink contrib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902040" y="1143000"/>
            <a:ext cx="5241960" cy="498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28600" y="0"/>
            <a:ext cx="3276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ng themselves to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Da Vinci sculp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was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first to find 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ect symmetr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wing people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re in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y perfec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6019920" cy="47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5410080"/>
            <a:ext cx="2992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the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 of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lip.  This show how 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 can change the mi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many and that 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can make a hu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in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486400" y="1417680"/>
            <a:ext cx="3657600" cy="544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457200" y="5143680"/>
            <a:ext cx="4648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mportance of lear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a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chu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icture to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s how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Jesus teach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how to 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563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2857680" y="4514760"/>
            <a:ext cx="17143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ing themselves on the ancient p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a picture of Madon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mead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re is anoth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inting of th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t 300 year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lder and they a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ery different in t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yles of writ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s pict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ws how she lives in 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mall village outside o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castle and how much th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orld has chang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646440" y="2590920"/>
            <a:ext cx="5497560" cy="426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486400" y="774720"/>
            <a:ext cx="3657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0:50:54Z</dcterms:created>
  <dc:creator>student</dc:creator>
  <dc:description/>
  <dc:language>en-US</dc:language>
  <cp:lastModifiedBy>student</cp:lastModifiedBy>
  <dcterms:modified xsi:type="dcterms:W3CDTF">2009-11-10T21:50:35Z</dcterms:modified>
  <cp:revision>2</cp:revision>
  <dc:subject/>
  <dc:title>Art museum project </dc:title>
</cp:coreProperties>
</file>