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3AC-987B-4C58-9784-04ECB276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F33-13FD-4B9F-BCA9-7D72260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E63-863D-4698-935A-BE03F5A0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013-8415-4E57-80D1-5D96DA7A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5FF-317D-4B3C-AC53-65321F5C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8BE-B481-4183-B483-BD509ECC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501-0BD9-4DED-A51C-D8DB802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005-D2EF-44CA-977E-1B8AD487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DA8-4215-47BC-A16A-03D3A42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FE7-0BD5-4611-BB0C-A1A8C24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761-43C6-4CAA-B142-7148B40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F64-EBAE-4909-AFAC-8666A6E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0EA93-9A24-49C5-B738-C6074AB8B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C8A65-7970-4766-9262-CCF91C5D4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museum proje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an Trau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4343400"/>
            <a:ext cx="3197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76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i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show th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pictur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con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02040" y="1143000"/>
            <a:ext cx="524196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ng themselves to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Da Vinci sculp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first to find 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ect symmet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ing people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re i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 perfe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6019920" cy="47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5410080"/>
            <a:ext cx="299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th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 of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lip.  This show how 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 can change the m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any and that 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can make a h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486400" y="1417680"/>
            <a:ext cx="365760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457200" y="5143680"/>
            <a:ext cx="464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hu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how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Jesus teach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ow to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57680" y="4514760"/>
            <a:ext cx="1714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 picture of Madon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mead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re is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inting of th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300 yea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lder and they a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ry different in t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yles of wri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s pict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s how she lives in 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mall village outside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castle and how much th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ld has chang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646440" y="2590920"/>
            <a:ext cx="5497560" cy="42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486400" y="774720"/>
            <a:ext cx="3657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50:54Z</dcterms:created>
  <dc:creator>student</dc:creator>
  <dc:description/>
  <dc:language>en-US</dc:language>
  <cp:lastModifiedBy>student</cp:lastModifiedBy>
  <dcterms:modified xsi:type="dcterms:W3CDTF">2009-11-10T21:50:35Z</dcterms:modified>
  <cp:revision>2</cp:revision>
  <dc:subject/>
  <dc:title>Art museum project </dc:title>
</cp:coreProperties>
</file>