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83E-9588-4671-AB3F-61932C74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2FB-CAB6-4090-88EB-7F53423C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0E4-1FCF-40F4-B3FF-1EEEB381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BDE-AC1B-4E34-8D04-323479D2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FE2-8813-401C-8BA3-D08592FF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C0D-817E-424A-A15B-50425420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812-5A13-4953-BD14-3B6FA377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AFF-8CB2-462D-B91F-9654675C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223-64C6-4E5B-852B-C7A11BE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C57-28A7-4367-94B9-A02A5E3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5DE-3F64-46DD-8869-D9EB0B4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6ED-6B6C-4F10-A37F-30DBBA6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ABED8-B81A-4112-BD67-1DA2DE7CE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EBED2-C95B-4ED7-B70D-2E8CE7499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museum proje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an Trau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4343400"/>
            <a:ext cx="3197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76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vi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show th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pictur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con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02040" y="1143000"/>
            <a:ext cx="524196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3276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ng themselves to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Da Vinci sculp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first to find 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ect symmet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wing people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re i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 perfe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6019920" cy="47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5410080"/>
            <a:ext cx="299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th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 of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lip.  This show how 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 can change the m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any and that 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can make a hu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486400" y="1417680"/>
            <a:ext cx="365760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457200" y="5143680"/>
            <a:ext cx="4648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hu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to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s how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Jesus teach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ow to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57680" y="4514760"/>
            <a:ext cx="1714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 picture of Madon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mead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re is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inting of th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300 year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lder and they a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ry different in t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yles of wri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s pict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s how she lives in 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mall village outside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castle and how much th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orld has chang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646440" y="2590920"/>
            <a:ext cx="5497560" cy="42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486400" y="774720"/>
            <a:ext cx="3657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0:50:54Z</dcterms:created>
  <dc:creator>student</dc:creator>
  <dc:description/>
  <dc:language>en-US</dc:language>
  <cp:lastModifiedBy>student</cp:lastModifiedBy>
  <dcterms:modified xsi:type="dcterms:W3CDTF">2009-11-10T21:50:35Z</dcterms:modified>
  <cp:revision>2</cp:revision>
  <dc:subject/>
  <dc:title>Art museum project </dc:title>
</cp:coreProperties>
</file>