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A4B-25A8-4F87-8588-1FC9821B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AA0-00B4-4825-B573-BE4F8514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CC4-B7A6-4819-9B7C-C12C56FB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004-931B-4683-874F-924E18EE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5B4-EE01-4319-9000-8ACA5D76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C82-6B83-4335-9BD5-15555FE9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BD9-5DC1-4D63-900B-6053FCC4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090-313E-4B3B-8E76-0C41B7B2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99A-282B-41A4-A210-BB5F1FD3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42E-0E39-40D7-AB4B-46D613B5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C5B-425C-4F8B-BE65-3B37D67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D11-8797-4490-A41E-2954812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E34BF-47F4-49F8-88C3-339A45D551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73534-AAE5-4EEA-A77F-528C00A18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museum projec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ian Traut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4343400"/>
            <a:ext cx="31971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76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vis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show th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cr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joy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pictur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contrib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902040" y="1143000"/>
            <a:ext cx="5241960" cy="49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28600" y="0"/>
            <a:ext cx="3276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ng themselves to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Da Vinci sculp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was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first to find 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ect symmet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wing people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re i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 perfec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6019920" cy="47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5410080"/>
            <a:ext cx="2992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the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 of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lip.  This show how 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 can change the mi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many and that 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can make a hu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486400" y="1417680"/>
            <a:ext cx="3657600" cy="54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457200" y="5143680"/>
            <a:ext cx="4648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hu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icture to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s how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Jesus teach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how to 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56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2857680" y="4514760"/>
            <a:ext cx="1714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 picture of Madon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mead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re is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inting of th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t 300 year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lder and they a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ry different in t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yles of writ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s pict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s how she lives in 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mall village outside o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castle and how much th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orld has chang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646440" y="2590920"/>
            <a:ext cx="5497560" cy="426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486400" y="774720"/>
            <a:ext cx="3657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0:50:54Z</dcterms:created>
  <dc:creator>student</dc:creator>
  <dc:description/>
  <dc:language>en-US</dc:language>
  <cp:lastModifiedBy>student</cp:lastModifiedBy>
  <dcterms:modified xsi:type="dcterms:W3CDTF">2009-11-10T21:50:35Z</dcterms:modified>
  <cp:revision>2</cp:revision>
  <dc:subject/>
  <dc:title>Art museum project </dc:title>
</cp:coreProperties>
</file>