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F87-0C78-4738-9367-DE6B232B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B9BF-91F7-47A5-B8FC-3536F3FD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65E3-8D7E-4B39-AC92-4959E5F2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FB7-99A0-4B11-B27D-4B7FC948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16D-21AA-4BE4-8517-C5118ED6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34CF-5568-41AD-A2AD-3715C7FA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1B6-9E70-4751-B4F7-26AFBC73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151-9981-4CF7-972F-C5915144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E1B-00FF-4409-AEAB-340D2654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CC58-4A70-4534-9376-B6F7E680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FB4C-C182-4C1B-A1A9-CF8F51BA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969-4513-45BB-8B22-1B32FEB0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8320E-A25C-49A0-911F-742F70EC4C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7CD0D-A0F4-4BEE-9C0D-015108431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museum projec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rian Traut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029200" y="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4343400"/>
            <a:ext cx="319716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0" y="763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5867280" y="3200400"/>
            <a:ext cx="3276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vis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 show th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cre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ope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joy 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pictures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think contribu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3902040" y="1143000"/>
            <a:ext cx="5241960" cy="4983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228600" y="0"/>
            <a:ext cx="32767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ibuting themselves to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Da Vinci sculp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was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first to find m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ect symmetr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wing people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re in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y perfec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6019920" cy="473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5410080"/>
            <a:ext cx="2992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the individ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painting of 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illip.  This show how 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 can change the mi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many and that 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 can make a hu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 in the wor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5486400" y="1417680"/>
            <a:ext cx="3657600" cy="5440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457200" y="5143680"/>
            <a:ext cx="4648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mportance of learn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pa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 chur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icture to 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s how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Jesus teach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how to a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572000" cy="5638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2857680" y="4514760"/>
            <a:ext cx="17143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deling themselves on the ancient p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is a picture of Madon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 the mead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re is anoth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ainting of th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ut 300 year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lder and they ar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Very different in th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yles of writing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s pictur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hows how she lives in 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mall village outside o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 castle and how much th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orld has chang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646440" y="2590920"/>
            <a:ext cx="5497560" cy="4267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5486400" y="774720"/>
            <a:ext cx="36576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20:50:54Z</dcterms:created>
  <dc:creator>student</dc:creator>
  <dc:description/>
  <dc:language>en-US</dc:language>
  <cp:lastModifiedBy>student</cp:lastModifiedBy>
  <dcterms:modified xsi:type="dcterms:W3CDTF">2009-11-10T21:50:35Z</dcterms:modified>
  <cp:revision>2</cp:revision>
  <dc:subject/>
  <dc:title>Art museum project </dc:title>
</cp:coreProperties>
</file>