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D4A-CD1D-4321-8B7E-9C731B56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465-30C3-4704-8306-C45F4A07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466-0E9A-4A8C-B1FF-215C430D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7ED-061B-4E7F-9DCF-D9A9717A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34E-891A-4067-A3EF-F7B4A03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56B-1595-4771-B8C3-A4F5A2DC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F96-CCB7-4910-95D8-CD6AEAA1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E81-00ED-4588-B0AB-F1851F7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271-0DCE-4DE9-8BE4-A355914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8ED-71D1-40AB-AC09-A43DBBD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6E4-0C5A-4D95-936B-53CD59D6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C59-58B5-48B9-A040-7D6E6D7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E2188-699A-4395-8D6D-031DA7AFB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F5C75-CB06-4F7C-9BC9-8C6194803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Virtual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k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n-in-renaissance-grab-chatting-with-old-woman.png"/>
          <p:cNvPicPr/>
          <p:nvPr/>
        </p:nvPicPr>
        <p:blipFill>
          <a:blip r:embed="rId1"/>
          <a:srcRect l="-53076" t="0" r="-53076" b="0"/>
          <a:stretch/>
        </p:blipFill>
        <p:spPr>
          <a:xfrm>
            <a:off x="-1143000" y="1417680"/>
            <a:ext cx="5958000" cy="3276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449880" y="24382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picture they are learning fashion. The mans 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hort and almost resembles a to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68431-300x300.jpg"/>
          <p:cNvPicPr/>
          <p:nvPr/>
        </p:nvPicPr>
        <p:blipFill>
          <a:blip r:embed="rId2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recian32.jpg"/>
          <p:cNvPicPr/>
          <p:nvPr/>
        </p:nvPicPr>
        <p:blipFill>
          <a:blip r:embed="rId3"/>
          <a:stretch/>
        </p:blipFill>
        <p:spPr>
          <a:xfrm>
            <a:off x="6033960" y="3417840"/>
            <a:ext cx="3110040" cy="344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429000" y="3084480"/>
            <a:ext cx="54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oman's clothing is long and draping like the ancient Greeks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8862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ributing to soci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Canada-Schools.jpg"/>
          <p:cNvPicPr/>
          <p:nvPr/>
        </p:nvPicPr>
        <p:blipFill>
          <a:blip r:embed="rId1"/>
          <a:srcRect l="-18777" t="0" r="-18777" b="0"/>
          <a:stretch/>
        </p:blipFill>
        <p:spPr>
          <a:xfrm>
            <a:off x="-685800" y="1066680"/>
            <a:ext cx="4987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45240" y="141768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ink that they contributed to society by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chool the education they had gained made it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grow up and build more houses or becom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to help the soci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a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of being an individual, is being yourself, and not letting any one else tell you otherwise. You can have your own beliefs, views, and sty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chool.pn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-609480" y="1417680"/>
            <a:ext cx="531972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809880" y="2133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is very important to the peop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issance. They hired scholars to teach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. Scholars taught mathematics,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ncient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ure 3.png"/>
          <p:cNvPicPr/>
          <p:nvPr/>
        </p:nvPicPr>
        <p:blipFill>
          <a:blip r:embed="rId2"/>
          <a:stretch/>
        </p:blipFill>
        <p:spPr>
          <a:xfrm>
            <a:off x="6654960" y="3098880"/>
            <a:ext cx="248904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1886400" y="533412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Francesco Petrarch he is a humanist sch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09:24Z</dcterms:created>
  <dc:creator>student</dc:creator>
  <dc:description/>
  <dc:language>en-US</dc:language>
  <cp:lastModifiedBy>student</cp:lastModifiedBy>
  <dcterms:modified xsi:type="dcterms:W3CDTF">2009-11-19T07:29:08Z</dcterms:modified>
  <cp:revision>2</cp:revision>
  <dc:subject/>
  <dc:title>My Virtual Museum</dc:title>
</cp:coreProperties>
</file>