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83FD-FB29-4EC0-A2AB-EE90590F6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0874-2EBE-4654-B6F3-1169038B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E280-C899-43FD-8F1C-D6E07BE58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ABFF-15EB-4D2E-98DA-01D70C0B7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2CA5-4651-482C-BDEF-68FBE060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CB51-5E33-43B3-A34C-EC940664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E9B2-C81B-48BB-899C-E2FB3A75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7D7C-AE02-45E1-A2B6-6185CD91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0635-D112-4387-B683-E02AB400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9FBE-7EF5-463E-8155-BF84F747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A17B-5989-4C8D-B270-43BF198B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033B-4CE5-4401-A192-0564C855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1EC0FE-4CF4-4EDA-95E8-2088D9B936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5BB7D2-6E07-4E43-8F54-1D1585E48C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Virtual Muse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Dak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deling themselves on the ancient pas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3" descr="man-in-renaissance-grab-chatting-with-old-woman.png"/>
          <p:cNvPicPr/>
          <p:nvPr/>
        </p:nvPicPr>
        <p:blipFill>
          <a:blip r:embed="rId1"/>
          <a:srcRect l="-53076" t="0" r="-53076" b="0"/>
          <a:stretch/>
        </p:blipFill>
        <p:spPr>
          <a:xfrm>
            <a:off x="-1143000" y="1417680"/>
            <a:ext cx="5958000" cy="327672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3449880" y="2438280"/>
            <a:ext cx="56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is picture they are learning fashion. The mans  cl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short and almost resembles a tog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68431-300x300.jpg"/>
          <p:cNvPicPr/>
          <p:nvPr/>
        </p:nvPicPr>
        <p:blipFill>
          <a:blip r:embed="rId2"/>
          <a:stretch/>
        </p:blipFill>
        <p:spPr>
          <a:xfrm>
            <a:off x="0" y="42670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grecian32.jpg"/>
          <p:cNvPicPr/>
          <p:nvPr/>
        </p:nvPicPr>
        <p:blipFill>
          <a:blip r:embed="rId3"/>
          <a:stretch/>
        </p:blipFill>
        <p:spPr>
          <a:xfrm>
            <a:off x="6033960" y="3417840"/>
            <a:ext cx="3110040" cy="3440160"/>
          </a:xfrm>
          <a:prstGeom prst="rect">
            <a:avLst/>
          </a:prstGeom>
          <a:ln w="0">
            <a:noFill/>
          </a:ln>
        </p:spPr>
      </p:pic>
      <p:sp>
        <p:nvSpPr>
          <p:cNvPr id="48" name="TextBox 8"/>
          <p:cNvSpPr/>
          <p:nvPr/>
        </p:nvSpPr>
        <p:spPr>
          <a:xfrm>
            <a:off x="3429000" y="3084480"/>
            <a:ext cx="54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Woman's clothing is long and draping like the ancient Greeks cl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2057400" y="44197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le Greek cl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3886200" y="6095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male Greek cl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ntributing to societ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Canada-Schools.jpg"/>
          <p:cNvPicPr/>
          <p:nvPr/>
        </p:nvPicPr>
        <p:blipFill>
          <a:blip r:embed="rId1"/>
          <a:srcRect l="-18777" t="0" r="-18777" b="0"/>
          <a:stretch/>
        </p:blipFill>
        <p:spPr>
          <a:xfrm>
            <a:off x="-685800" y="1066680"/>
            <a:ext cx="4987800" cy="274320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3945240" y="1417680"/>
            <a:ext cx="502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think that they contributed to society by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school the education they had gained made it 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ld grow up and build more houses or become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acher to help the socie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a individu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mportance of being an individual, is being yourself, and not letting any one else tell you otherwise. You can have your own beliefs, views, and styl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importance of lear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3" descr="school.png"/>
          <p:cNvPicPr/>
          <p:nvPr/>
        </p:nvPicPr>
        <p:blipFill>
          <a:blip r:embed="rId1"/>
          <a:srcRect l="-18184" t="0" r="-18184" b="0"/>
          <a:stretch/>
        </p:blipFill>
        <p:spPr>
          <a:xfrm>
            <a:off x="-609480" y="1417680"/>
            <a:ext cx="5319720" cy="292572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3809880" y="213372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arning is very important to the peopl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naissance. They hired scholars to teach the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ildren. Scholars taught mathematics, sc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Ancient Hist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Picture 3.png"/>
          <p:cNvPicPr/>
          <p:nvPr/>
        </p:nvPicPr>
        <p:blipFill>
          <a:blip r:embed="rId2"/>
          <a:stretch/>
        </p:blipFill>
        <p:spPr>
          <a:xfrm>
            <a:off x="6654960" y="3098880"/>
            <a:ext cx="2489040" cy="3759120"/>
          </a:xfrm>
          <a:prstGeom prst="rect">
            <a:avLst/>
          </a:prstGeom>
          <a:ln w="0">
            <a:noFill/>
          </a:ln>
        </p:spPr>
      </p:pic>
      <p:sp>
        <p:nvSpPr>
          <p:cNvPr id="60" name="TextBox 7"/>
          <p:cNvSpPr/>
          <p:nvPr/>
        </p:nvSpPr>
        <p:spPr>
          <a:xfrm>
            <a:off x="1886400" y="5334120"/>
            <a:ext cx="491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Francesco Petrarch he is a humanist scho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20:09:24Z</dcterms:created>
  <dc:creator>student</dc:creator>
  <dc:description/>
  <dc:language>en-US</dc:language>
  <cp:lastModifiedBy>student</cp:lastModifiedBy>
  <dcterms:modified xsi:type="dcterms:W3CDTF">2009-11-19T07:29:08Z</dcterms:modified>
  <cp:revision>2</cp:revision>
  <dc:subject/>
  <dc:title>My Virtual Museum</dc:title>
</cp:coreProperties>
</file>