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5E76-2056-4846-BB16-076BFD01C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C341-7E3B-49F7-8D48-CD37D27B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A02F-3D1A-47BD-8E38-18A3BBC2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4DB0-A872-4205-93CE-B516A8CD5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B380-4FDA-49E5-BDBF-72E8CACC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3BAD-2AE2-45DC-8BB6-74A5559D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9BAD-A8EA-4536-97C9-BC8687FD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A95F-05EE-4C66-B408-016B6F3C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F62F-EAEE-4916-8FFD-000A0B3C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520F-9314-4137-A480-E4CC99B9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DC6B-BA25-4AC8-BE0A-26A065FD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2193-EDAB-456C-864E-39313338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51A603-55AF-4C61-87D0-56F6EDDE2B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40F35F-BAC4-47D5-A04A-B5A59E1143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Virtual Muse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Dak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deling themselves on the ancient pas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3" descr="man-in-renaissance-grab-chatting-with-old-woman.png"/>
          <p:cNvPicPr/>
          <p:nvPr/>
        </p:nvPicPr>
        <p:blipFill>
          <a:blip r:embed="rId1"/>
          <a:srcRect l="-53076" t="0" r="-53076" b="0"/>
          <a:stretch/>
        </p:blipFill>
        <p:spPr>
          <a:xfrm>
            <a:off x="-1143000" y="1417680"/>
            <a:ext cx="5958000" cy="327672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3449880" y="2438280"/>
            <a:ext cx="56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is picture they are learning fashion. The mans  cl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short and almost resembles a tog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68431-300x300.jpg"/>
          <p:cNvPicPr/>
          <p:nvPr/>
        </p:nvPicPr>
        <p:blipFill>
          <a:blip r:embed="rId2"/>
          <a:stretch/>
        </p:blipFill>
        <p:spPr>
          <a:xfrm>
            <a:off x="0" y="42670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grecian32.jpg"/>
          <p:cNvPicPr/>
          <p:nvPr/>
        </p:nvPicPr>
        <p:blipFill>
          <a:blip r:embed="rId3"/>
          <a:stretch/>
        </p:blipFill>
        <p:spPr>
          <a:xfrm>
            <a:off x="6033960" y="3417840"/>
            <a:ext cx="3110040" cy="3440160"/>
          </a:xfrm>
          <a:prstGeom prst="rect">
            <a:avLst/>
          </a:prstGeom>
          <a:ln w="0">
            <a:noFill/>
          </a:ln>
        </p:spPr>
      </p:pic>
      <p:sp>
        <p:nvSpPr>
          <p:cNvPr id="48" name="TextBox 8"/>
          <p:cNvSpPr/>
          <p:nvPr/>
        </p:nvSpPr>
        <p:spPr>
          <a:xfrm>
            <a:off x="3429000" y="3084480"/>
            <a:ext cx="54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Woman's clothing is long and draping like the ancient Greeks cl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2057400" y="44197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le Greek cl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3886200" y="6095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male Greek cl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ntributing to societ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Canada-Schools.jpg"/>
          <p:cNvPicPr/>
          <p:nvPr/>
        </p:nvPicPr>
        <p:blipFill>
          <a:blip r:embed="rId1"/>
          <a:srcRect l="-18777" t="0" r="-18777" b="0"/>
          <a:stretch/>
        </p:blipFill>
        <p:spPr>
          <a:xfrm>
            <a:off x="-685800" y="1066680"/>
            <a:ext cx="4987800" cy="274320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3945240" y="1417680"/>
            <a:ext cx="502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think that they contributed to society by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school the education they had gained made it 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ld grow up and build more houses or become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acher to help the socie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a individu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mportance of being an individual, is being yourself, and not letting any one else tell you otherwise. You can have your own beliefs, views, and styl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importance of lear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3" descr="school.png"/>
          <p:cNvPicPr/>
          <p:nvPr/>
        </p:nvPicPr>
        <p:blipFill>
          <a:blip r:embed="rId1"/>
          <a:srcRect l="-18184" t="0" r="-18184" b="0"/>
          <a:stretch/>
        </p:blipFill>
        <p:spPr>
          <a:xfrm>
            <a:off x="-609480" y="1417680"/>
            <a:ext cx="5319720" cy="292572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3809880" y="213372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arning is very important to the peopl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naissance. They hired scholars to teach the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ildren. Scholars taught mathematics, sc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Ancient Hist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Picture 3.png"/>
          <p:cNvPicPr/>
          <p:nvPr/>
        </p:nvPicPr>
        <p:blipFill>
          <a:blip r:embed="rId2"/>
          <a:stretch/>
        </p:blipFill>
        <p:spPr>
          <a:xfrm>
            <a:off x="6654960" y="3098880"/>
            <a:ext cx="2489040" cy="3759120"/>
          </a:xfrm>
          <a:prstGeom prst="rect">
            <a:avLst/>
          </a:prstGeom>
          <a:ln w="0">
            <a:noFill/>
          </a:ln>
        </p:spPr>
      </p:pic>
      <p:sp>
        <p:nvSpPr>
          <p:cNvPr id="60" name="TextBox 7"/>
          <p:cNvSpPr/>
          <p:nvPr/>
        </p:nvSpPr>
        <p:spPr>
          <a:xfrm>
            <a:off x="1886400" y="5334120"/>
            <a:ext cx="491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Francesco Petrarch he is a humanist scho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20:09:24Z</dcterms:created>
  <dc:creator>student</dc:creator>
  <dc:description/>
  <dc:language>en-US</dc:language>
  <cp:lastModifiedBy>student</cp:lastModifiedBy>
  <dcterms:modified xsi:type="dcterms:W3CDTF">2009-11-19T07:29:08Z</dcterms:modified>
  <cp:revision>2</cp:revision>
  <dc:subject/>
  <dc:title>My Virtual Museum</dc:title>
</cp:coreProperties>
</file>