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24.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png" ContentType="image/png"/>
  <Override PartName="/ppt/media/image3.png" ContentType="image/png"/>
  <Override PartName="/ppt/media/image19.png" ContentType="image/png"/>
  <Override PartName="/ppt/media/image17.png" ContentType="image/png"/>
  <Override PartName="/ppt/media/image15.jpeg" ContentType="image/jpeg"/>
  <Override PartName="/ppt/media/image2.png" ContentType="image/png"/>
  <Override PartName="/ppt/media/image4.png" ContentType="image/png"/>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25718-C5FF-450A-B422-4876ECD74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72626-2D9E-4A6A-BB9B-DF93B2B17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3F6D7A-A843-4675-BD94-6F6CF02B4D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30677F-1A81-46B8-87BD-2B515343E4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3CB5F9-FC00-4EA5-ABDB-750C4FC4A0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855F61-0798-4B02-B0DF-2F3FD58EA9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7D27CB-E525-4F6E-A276-96184B7EB2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5F678B-1B0B-40B5-AA55-A39D51736E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F306D2-67E6-4B4D-ABF7-AE8CDD3ABB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54D638-5F4F-4A32-8027-CCA94CF7FF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B62AC6-EB0D-4EDD-B41D-40165EB837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598C5-A380-4408-B07F-AD1F55DAA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747AF-C6AA-46E3-962A-B9BC0D18B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EBBA4D-2E49-4265-AECE-CD526991B7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BEC3F-BD90-4AF6-8BE9-5B5D0F63D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3D427-C330-49DF-97E3-B788510B0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8EB40-BE39-4F80-8035-CB012EE41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76E98-3F5A-4632-B83C-AA6F004CB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EC7A1-E1AE-4D7A-BF01-78797E7CA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D1497-D79F-4754-8DDE-E82EC7C15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B5AA6-D7EC-43AA-9CE5-3EE928468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F2F0E-7E33-49BC-9B4D-0C4DAE2CB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B09F3-3B31-40FC-976F-804A97DB4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8EBA0-E30D-4719-B662-B626E62AD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EE5F37-5CDF-4B52-96FA-F476BAD727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597D55-6410-4C5A-B762-D51AE68055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8B21F2-59C3-48C1-9803-0E3EFA82F4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B047AA-E0E3-4206-A44B-C7AA2CDE3B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FD16D4-CDE6-4818-9780-1434B0D3C7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3A0718-AA7D-4309-B389-D9D33F8814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BCBF96-8872-4D13-B4DD-EB8B4AE5E1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A0D65-BDC9-404D-AFE4-854E60E98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979603-2955-4038-AE91-101ED19929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624D9F-D272-41F5-AC11-15F149639E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FCBA1F-A52E-49C2-BA2F-AB1E99C4E3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862F3C-448F-4330-A691-DDAE1B3004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AC3C97-A121-4952-9F2D-0F003023A3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F23C12-F494-4B62-8E86-F748E98786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1B913A-2BCD-40A2-B717-D895B47077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AFF106-2CA0-42A9-ABD5-7AC9EE546C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9A9F65-3799-439B-88AA-DFD086A652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950B10-F0DA-4563-93DF-BE0A88071D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34382-C8B7-4F61-91B9-FE8FFD410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E0BB00-F310-4B31-BA16-68BDDC0F31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4ECBF0-CF57-4B1A-9296-6CC6E97DB0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41A887-5327-4F30-BE73-FFDD0AEAC7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458C64-1778-4D95-8E66-78A8ED34C8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DC95B8-374D-4C9C-82D1-BD81447628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FEF7D3-6B50-44D6-A5C1-424895AE89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A246F7-1695-4DBF-94EE-8179F1B1A2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A3827E-94F8-4395-B11C-A1C0B1A418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CD56E4-3743-4EF4-97BD-914554472B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B6D20E-C56F-4D03-B0F8-F7A2ADD4D1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9DAEA-3742-4E95-BD31-20D9C88EB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2676C8-837A-44F2-B75C-4A37F8E187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4C0EBE-75F5-41FB-9C92-398EDAB65B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3D3255-BA99-49D6-A85E-A9AB92844F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1F161D-1BB2-4D09-8175-11B1324161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20F896-2D9E-4C2F-9D86-E46C98FFD3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F9C7A1-12AE-4439-94BE-A8B1B1115D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A6093E-36C7-4CE2-A6D7-88509F7654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F8ACD2-7FDA-4A34-8CC4-C48A57E6C6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E87CEA-E8D9-4630-80B3-D1D1D2C2DB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714A3B-247B-43BC-8431-886DD15E1A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EF25A-446D-4DDA-A26D-C214598D8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B9F2B4-3FFE-4478-8592-B52C4F0739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6F104E-0896-4D9A-8E85-59FA7C6441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904601-C3D1-495F-B985-81761B7F91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883C32-D361-4227-A28C-5D854CD47A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43388D-7996-4447-B0A8-473A733078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D78FA8-4D17-4D08-9B1B-9B15F3F496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51C05B-9E9A-4650-8BA8-8094F5960C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B714F8-F414-40FC-B3CC-EA815869FF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50F3C5-1732-478F-B037-517AAEBDA1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8DF969-94EF-4A54-93BB-00F97740FD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EAF39-418F-4539-A9CD-15BA7D5AA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ECCE8D-FBAB-44AA-AA48-8019A3AA0C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45C00B-779C-4333-A9B2-FB0CDADEEA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EF5BF5-DC75-40DB-A7A5-E965B29A6E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C89967-C5C8-43E1-9131-19540D6F64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158BBC-E4D7-42A9-8680-195D8C7782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E9336F-CFAD-4B40-8BCA-E29DFBBD81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9C1EAC-3822-40CB-A0B9-25F7D804CE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219B61-0F61-4F6C-8C7B-B3A223688C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10932C-8FB4-4912-ACCB-E34E41C0AF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B08DF7-9536-44CE-AC1D-5612F31088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BB0F3-0C71-416F-A240-19D9AFB24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4A04E3-282C-42E8-A38E-8694666AE2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D254A7-140E-465F-A663-63DFB2C215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AF5524-D302-4D22-9897-58F83126B5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505280-4550-41D2-AF06-EC279559B3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00B629-1D9E-486E-9C68-2C7D5D9D51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48B29A-4779-4C70-B99E-FAB7864FBC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D2A786-B20B-4C3D-A3EA-FB6A34D3D0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3A15E1-F1F9-4C6C-8CF1-9F0C5C7A9C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96A65D-62D1-497E-BA45-9B71C203CE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5C3C16-558E-40EE-BAD0-7FE825DEE7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3D316-077A-4044-AF4F-E069BBB20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AD5C7E-A1AD-480B-8EB6-0006007565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57DE81-619A-47F3-AC18-F5ABECE183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955262-E8D8-45A4-A2FA-EE687C4C60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CF855F-884A-42FC-8737-60CDE95849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1153C2-1D0C-44BE-B108-3FB1FF55B7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1D40A2-A8D1-470E-B9E8-E8F378F3B3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16D5F2-359E-4EFA-8B45-719C810864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E5E9C8-5C63-4132-BF52-55578E0531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311025-6E70-450E-A275-0A19852D49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86E28A-C558-47C1-A551-049DEA62DD7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42920"/>
            <a:ext cx="8643960" cy="23760"/>
            <a:chOff x="506520" y="1042920"/>
            <a:chExt cx="8643960" cy="23760"/>
          </a:xfrm>
        </p:grpSpPr>
        <p:pic>
          <p:nvPicPr>
            <p:cNvPr id="1" name="Straight Connector 6" descr=""/>
            <p:cNvPicPr/>
            <p:nvPr/>
          </p:nvPicPr>
          <p:blipFill>
            <a:blip r:embed="rId3"/>
            <a:stretch/>
          </p:blipFill>
          <p:spPr>
            <a:xfrm>
              <a:off x="506520" y="1042920"/>
              <a:ext cx="8643960" cy="2376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052820-CEC6-44A3-A393-87E272F8FAD3}" type="datetime">
              <a:rPr b="0" lang="en-US" sz="1200" spc="-1" strike="noStrike">
                <a:solidFill>
                  <a:srgbClr val="d38e27"/>
                </a:solidFill>
                <a:latin typeface="Franklin Gothic Book"/>
              </a:rPr>
              <a:t>07/30/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51F64A-2AA1-4805-A9B4-BC2A6DF547B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42920"/>
            <a:ext cx="8643960" cy="23760"/>
            <a:chOff x="506520" y="1042920"/>
            <a:chExt cx="8643960" cy="23760"/>
          </a:xfrm>
        </p:grpSpPr>
        <p:pic>
          <p:nvPicPr>
            <p:cNvPr id="9" name="Straight Connector 8" descr=""/>
            <p:cNvPicPr/>
            <p:nvPr/>
          </p:nvPicPr>
          <p:blipFill>
            <a:blip r:embed="rId4"/>
            <a:stretch/>
          </p:blipFill>
          <p:spPr>
            <a:xfrm>
              <a:off x="506520" y="1042920"/>
              <a:ext cx="8643960" cy="2376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E628CD-C992-42FD-AB4C-0C6F80B65C56}" type="datetime">
              <a:rPr b="0" lang="en-US" sz="1200" spc="-1" strike="noStrike">
                <a:solidFill>
                  <a:srgbClr val="d38e27"/>
                </a:solidFill>
                <a:latin typeface="Franklin Gothic Book"/>
              </a:rPr>
              <a:t>07/30/26</a:t>
            </a:fld>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F8E544-EB1D-4841-A26A-8275D9BF00B2}"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42920"/>
            <a:ext cx="8643960" cy="23760"/>
            <a:chOff x="506520" y="1042920"/>
            <a:chExt cx="8643960" cy="23760"/>
          </a:xfrm>
        </p:grpSpPr>
        <p:pic>
          <p:nvPicPr>
            <p:cNvPr id="95" name="Straight Connector 6" descr=""/>
            <p:cNvPicPr/>
            <p:nvPr/>
          </p:nvPicPr>
          <p:blipFill>
            <a:blip r:embed="rId3"/>
            <a:stretch/>
          </p:blipFill>
          <p:spPr>
            <a:xfrm>
              <a:off x="506520" y="1042920"/>
              <a:ext cx="8643960" cy="2376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97" name="Straight Connector 8"/>
          <p:cNvGrpSpPr/>
          <p:nvPr/>
        </p:nvGrpSpPr>
        <p:grpSpPr>
          <a:xfrm>
            <a:off x="506520" y="1042920"/>
            <a:ext cx="8643960" cy="23760"/>
            <a:chOff x="506520" y="1042920"/>
            <a:chExt cx="8643960" cy="23760"/>
          </a:xfrm>
        </p:grpSpPr>
        <p:pic>
          <p:nvPicPr>
            <p:cNvPr id="98" name="Straight Connector 8" descr=""/>
            <p:cNvPicPr/>
            <p:nvPr/>
          </p:nvPicPr>
          <p:blipFill>
            <a:blip r:embed="rId4"/>
            <a:stretch/>
          </p:blipFill>
          <p:spPr>
            <a:xfrm>
              <a:off x="506520" y="1042920"/>
              <a:ext cx="8643960" cy="2376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D2A7DD-76C2-4583-8E4F-559EC0B0AA76}" type="datetime">
              <a:rPr b="0" lang="en-US" sz="1200" spc="-1" strike="noStrike">
                <a:solidFill>
                  <a:srgbClr val="d38e27"/>
                </a:solidFill>
                <a:latin typeface="Franklin Gothic Book"/>
              </a:rPr>
              <a:t>07/30/26</a:t>
            </a:fld>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63844-D205-4D22-A417-2BA8ED003307}"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4FD108-1739-4EF3-9162-BA6E12B0250F}" type="datetime">
              <a:rPr b="0" lang="en-US" sz="1200" spc="-1" strike="noStrike">
                <a:solidFill>
                  <a:srgbClr val="d38e27"/>
                </a:solidFill>
                <a:latin typeface="Franklin Gothic Book"/>
              </a:rPr>
              <a:t>07/30/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F6ECF1-7C67-4D24-86D4-EAD120F12869}"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947ED9-B94C-408E-B17C-5BEF718CEBA6}" type="datetime">
              <a:rPr b="0" lang="en-US" sz="1200" spc="-1" strike="noStrike">
                <a:solidFill>
                  <a:srgbClr val="d38e27"/>
                </a:solidFill>
                <a:latin typeface="Franklin Gothic Book"/>
              </a:rPr>
              <a:t>07/30/26</a:t>
            </a:fld>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A8855B-843C-4247-8E3C-B6D3D3012FD3}"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BD815A-7B62-4396-824C-16D927D97992}" type="datetime">
              <a:rPr b="0" lang="en-US" sz="1200" spc="-1" strike="noStrike">
                <a:solidFill>
                  <a:srgbClr val="d38e27"/>
                </a:solidFill>
                <a:latin typeface="Franklin Gothic Book"/>
              </a:rPr>
              <a:t>07/30/26</a:t>
            </a:fld>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C1B987-BAB2-461F-A355-8179ECCC3C3E}"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B948C1-A209-4DB5-AF2B-3937D75763FB}" type="datetime">
              <a:rPr b="0" lang="en-US" sz="1200" spc="-1" strike="noStrike">
                <a:solidFill>
                  <a:srgbClr val="d38e27"/>
                </a:solidFill>
                <a:latin typeface="Franklin Gothic Book"/>
              </a:rPr>
              <a:t>07/30/26</a:t>
            </a:fld>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B743CC-E1C2-44D8-ABBE-95EA29E1379B}"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097DCF-545B-46E9-93C2-EBBAD2C17C42}" type="datetime">
              <a:rPr b="0" lang="en-US" sz="1200" spc="-1" strike="noStrike">
                <a:solidFill>
                  <a:srgbClr val="d38e27"/>
                </a:solidFill>
                <a:latin typeface="Franklin Gothic Book"/>
              </a:rPr>
              <a:t>07/30/26</a:t>
            </a:fld>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E6A164-E316-49CD-A9CA-ACD9A03BCA53}"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B2F083-9749-47F1-9E72-76C1EB1B7737}" type="datetime">
              <a:rPr b="0" lang="en-US" sz="1200" spc="-1" strike="noStrike">
                <a:solidFill>
                  <a:srgbClr val="d38e27"/>
                </a:solidFill>
                <a:latin typeface="Franklin Gothic Book"/>
              </a:rPr>
              <a:t>07/30/26</a:t>
            </a:fld>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1AB117-BFA4-456C-A4CB-B601D8D821B8}"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Title 1" descr=""/>
          <p:cNvPicPr/>
          <p:nvPr/>
        </p:nvPicPr>
        <p:blipFill>
          <a:blip r:embed="rId2"/>
          <a:stretch/>
        </p:blipFill>
        <p:spPr>
          <a:xfrm>
            <a:off x="378000" y="4846680"/>
            <a:ext cx="8467560" cy="1236600"/>
          </a:xfrm>
          <a:prstGeom prst="rect">
            <a:avLst/>
          </a:prstGeom>
          <a:ln w="0">
            <a:noFill/>
          </a:ln>
        </p:spPr>
      </p:pic>
      <p:sp>
        <p:nvSpPr>
          <p:cNvPr id="400"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Franklin Gothic Book"/>
              </a:rPr>
              <a:t>My Virtual Museum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Franklin Gothic Book"/>
              </a:rPr>
              <a:t>By: Kelsi Jone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Title 1" descr=""/>
          <p:cNvPicPr/>
          <p:nvPr/>
        </p:nvPicPr>
        <p:blipFill>
          <a:blip r:embed="rId2"/>
          <a:stretch/>
        </p:blipFill>
        <p:spPr>
          <a:xfrm>
            <a:off x="298440" y="450720"/>
            <a:ext cx="8699400" cy="987480"/>
          </a:xfrm>
          <a:prstGeom prst="rect">
            <a:avLst/>
          </a:prstGeom>
          <a:ln w="0">
            <a:noFill/>
          </a:ln>
        </p:spPr>
      </p:pic>
      <p:sp>
        <p:nvSpPr>
          <p:cNvPr id="402" name=""/>
          <p:cNvSpPr txBox="1"/>
          <p:nvPr/>
        </p:nvSpPr>
        <p:spPr>
          <a:xfrm>
            <a:off x="304920" y="1554120"/>
            <a:ext cx="86868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The women finely decorated their dresses. Typical Renaissance clothing was not just limited to England, which was ruled by Queen Elizabeth, but its influence spread to other European countries such as Spain, France, Italy, Germany, Flanders, and Poland. The rich wore articles of clothing made of velvet, satin, and cotton. The poor wore flannel, and other cheap materials.</a:t>
            </a:r>
            <a:endParaRPr b="0" lang="en-US" sz="2000" spc="-1" strike="noStrike">
              <a:solidFill>
                <a:srgbClr val="4e3b30"/>
              </a:solidFill>
              <a:latin typeface="Franklin Gothic Book"/>
            </a:endParaRPr>
          </a:p>
        </p:txBody>
      </p:sp>
      <p:pic>
        <p:nvPicPr>
          <p:cNvPr id="403" name="Picture 7" descr="renaissance-clothing-1.jpg"/>
          <p:cNvPicPr/>
          <p:nvPr/>
        </p:nvPicPr>
        <p:blipFill>
          <a:blip r:embed="rId3"/>
          <a:stretch/>
        </p:blipFill>
        <p:spPr>
          <a:xfrm>
            <a:off x="6761160" y="3124080"/>
            <a:ext cx="2230560" cy="1932120"/>
          </a:xfrm>
          <a:prstGeom prst="rect">
            <a:avLst/>
          </a:prstGeom>
          <a:ln w="0">
            <a:noFill/>
          </a:ln>
        </p:spPr>
      </p:pic>
      <p:pic>
        <p:nvPicPr>
          <p:cNvPr id="404" name="Picture 8" descr="images-1.jpg"/>
          <p:cNvPicPr/>
          <p:nvPr/>
        </p:nvPicPr>
        <p:blipFill>
          <a:blip r:embed="rId4"/>
          <a:stretch/>
        </p:blipFill>
        <p:spPr>
          <a:xfrm>
            <a:off x="304920" y="3124080"/>
            <a:ext cx="1600200" cy="1600200"/>
          </a:xfrm>
          <a:prstGeom prst="rect">
            <a:avLst/>
          </a:prstGeom>
          <a:ln w="0">
            <a:noFill/>
          </a:ln>
        </p:spPr>
      </p:pic>
      <p:pic>
        <p:nvPicPr>
          <p:cNvPr id="405" name="Picture 9" descr="images.jpg"/>
          <p:cNvPicPr/>
          <p:nvPr/>
        </p:nvPicPr>
        <p:blipFill>
          <a:blip r:embed="rId5"/>
          <a:stretch/>
        </p:blipFill>
        <p:spPr>
          <a:xfrm>
            <a:off x="3701880" y="3352680"/>
            <a:ext cx="2421000" cy="2122560"/>
          </a:xfrm>
          <a:prstGeom prst="rect">
            <a:avLst/>
          </a:prstGeom>
          <a:ln w="0">
            <a:noFill/>
          </a:ln>
        </p:spPr>
      </p:pic>
      <p:sp>
        <p:nvSpPr>
          <p:cNvPr id="406" name="TextBox 6"/>
          <p:cNvSpPr/>
          <p:nvPr/>
        </p:nvSpPr>
        <p:spPr>
          <a:xfrm>
            <a:off x="3701880" y="5475240"/>
            <a:ext cx="26226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is is a Renaissance dress. They are both for the rich, but the one on the right, is for the very wealthy. </a:t>
            </a:r>
            <a:endParaRPr b="0" lang="en-US" sz="1000" spc="-1" strike="noStrike">
              <a:solidFill>
                <a:srgbClr val="000000"/>
              </a:solidFill>
              <a:latin typeface="Arial"/>
            </a:endParaRPr>
          </a:p>
        </p:txBody>
      </p:sp>
      <p:sp>
        <p:nvSpPr>
          <p:cNvPr id="407" name="TextBox 7"/>
          <p:cNvSpPr/>
          <p:nvPr/>
        </p:nvSpPr>
        <p:spPr>
          <a:xfrm>
            <a:off x="304920" y="5056200"/>
            <a:ext cx="13716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 this picture, it would be what a fighter would wear. He’s wearing tights, and a tunic. Equipped with a swor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8" name="Title 1" descr=""/>
          <p:cNvPicPr/>
          <p:nvPr/>
        </p:nvPicPr>
        <p:blipFill>
          <a:blip r:embed="rId2"/>
          <a:stretch/>
        </p:blipFill>
        <p:spPr>
          <a:xfrm>
            <a:off x="298440" y="450720"/>
            <a:ext cx="8699400" cy="1054080"/>
          </a:xfrm>
          <a:prstGeom prst="rect">
            <a:avLst/>
          </a:prstGeom>
          <a:ln w="0">
            <a:noFill/>
          </a:ln>
        </p:spPr>
      </p:pic>
      <p:sp>
        <p:nvSpPr>
          <p:cNvPr id="40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umanist believed in good education, and being an individual. I guess they would contribute to society by following those rules. They also liked classical writings, and many other art sources. </a:t>
            </a:r>
            <a:endParaRPr b="0" lang="en-US" sz="3200" spc="-1" strike="noStrike">
              <a:solidFill>
                <a:srgbClr val="4e3b30"/>
              </a:solidFill>
              <a:latin typeface="Franklin Gothic Book"/>
            </a:endParaRPr>
          </a:p>
        </p:txBody>
      </p:sp>
      <p:pic>
        <p:nvPicPr>
          <p:cNvPr id="410" name="Picture 3" descr="images-2.jpg"/>
          <p:cNvPicPr/>
          <p:nvPr/>
        </p:nvPicPr>
        <p:blipFill>
          <a:blip r:embed="rId3"/>
          <a:stretch/>
        </p:blipFill>
        <p:spPr>
          <a:xfrm>
            <a:off x="304920" y="3726000"/>
            <a:ext cx="1609560" cy="2354040"/>
          </a:xfrm>
          <a:prstGeom prst="rect">
            <a:avLst/>
          </a:prstGeom>
          <a:ln w="0">
            <a:noFill/>
          </a:ln>
        </p:spPr>
      </p:pic>
      <p:pic>
        <p:nvPicPr>
          <p:cNvPr id="411" name="Picture 4" descr="images-3.jpg"/>
          <p:cNvPicPr/>
          <p:nvPr/>
        </p:nvPicPr>
        <p:blipFill>
          <a:blip r:embed="rId4"/>
          <a:stretch/>
        </p:blipFill>
        <p:spPr>
          <a:xfrm>
            <a:off x="5638680" y="3929040"/>
            <a:ext cx="2167200" cy="2166840"/>
          </a:xfrm>
          <a:prstGeom prst="rect">
            <a:avLst/>
          </a:prstGeom>
          <a:ln w="0">
            <a:noFill/>
          </a:ln>
        </p:spPr>
      </p:pic>
      <p:pic>
        <p:nvPicPr>
          <p:cNvPr id="412" name="Picture 5" descr="images-7.jpg"/>
          <p:cNvPicPr/>
          <p:nvPr/>
        </p:nvPicPr>
        <p:blipFill>
          <a:blip r:embed="rId5"/>
          <a:stretch/>
        </p:blipFill>
        <p:spPr>
          <a:xfrm>
            <a:off x="3478320" y="3929040"/>
            <a:ext cx="126972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3" name="Title 1" descr=""/>
          <p:cNvPicPr/>
          <p:nvPr/>
        </p:nvPicPr>
        <p:blipFill>
          <a:blip r:embed="rId2"/>
          <a:stretch/>
        </p:blipFill>
        <p:spPr>
          <a:xfrm>
            <a:off x="298440" y="450720"/>
            <a:ext cx="8699400" cy="1054080"/>
          </a:xfrm>
          <a:prstGeom prst="rect">
            <a:avLst/>
          </a:prstGeom>
          <a:ln w="0">
            <a:noFill/>
          </a:ln>
        </p:spPr>
      </p:pic>
      <p:sp>
        <p:nvSpPr>
          <p:cNvPr id="414"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importance of being an individual, is that you can believe in whatever you want to believe in. You can just be yourself. Also, you don’t care what other people think about you. </a:t>
            </a:r>
            <a:endParaRPr b="0" lang="en-US" sz="3200" spc="-1" strike="noStrike">
              <a:solidFill>
                <a:srgbClr val="4e3b30"/>
              </a:solidFill>
              <a:latin typeface="Franklin Gothic Book"/>
            </a:endParaRPr>
          </a:p>
        </p:txBody>
      </p:sp>
      <p:pic>
        <p:nvPicPr>
          <p:cNvPr id="415" name="Picture 3" descr="images-4.jpg"/>
          <p:cNvPicPr/>
          <p:nvPr/>
        </p:nvPicPr>
        <p:blipFill>
          <a:blip r:embed="rId3"/>
          <a:stretch/>
        </p:blipFill>
        <p:spPr>
          <a:xfrm>
            <a:off x="304920" y="3492360"/>
            <a:ext cx="2346120" cy="1549440"/>
          </a:xfrm>
          <a:prstGeom prst="rect">
            <a:avLst/>
          </a:prstGeom>
          <a:ln w="0">
            <a:noFill/>
          </a:ln>
        </p:spPr>
      </p:pic>
      <p:pic>
        <p:nvPicPr>
          <p:cNvPr id="416" name="Picture 4" descr="corrosive-individualism.png"/>
          <p:cNvPicPr/>
          <p:nvPr/>
        </p:nvPicPr>
        <p:blipFill>
          <a:blip r:embed="rId4"/>
          <a:stretch/>
        </p:blipFill>
        <p:spPr>
          <a:xfrm>
            <a:off x="4175280" y="3763800"/>
            <a:ext cx="4206600" cy="309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7" name="Title 1" descr=""/>
          <p:cNvPicPr/>
          <p:nvPr/>
        </p:nvPicPr>
        <p:blipFill>
          <a:blip r:embed="rId2"/>
          <a:stretch/>
        </p:blipFill>
        <p:spPr>
          <a:xfrm>
            <a:off x="298440" y="450720"/>
            <a:ext cx="8699400" cy="1054080"/>
          </a:xfrm>
          <a:prstGeom prst="rect">
            <a:avLst/>
          </a:prstGeom>
          <a:ln w="0">
            <a:noFill/>
          </a:ln>
        </p:spPr>
      </p:pic>
      <p:sp>
        <p:nvSpPr>
          <p:cNvPr id="418" name=""/>
          <p:cNvSpPr txBox="1"/>
          <p:nvPr/>
        </p:nvSpPr>
        <p:spPr>
          <a:xfrm>
            <a:off x="304920" y="1554120"/>
            <a:ext cx="8686800" cy="4525920"/>
          </a:xfrm>
          <a:prstGeom prst="rect">
            <a:avLst/>
          </a:prstGeom>
          <a:noFill/>
          <a:ln w="0">
            <a:noFill/>
          </a:ln>
        </p:spPr>
        <p:txBody>
          <a:bodyPr anchor="t">
            <a:normAutofit/>
          </a:bodyPr>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Learning was important, and still is. It helps you get a job. Humanist strongly believed in good education. They were also really into the artsy stuff. Also, they got scholars for their children, the scholars were for mathematics, sciences, and ancient history.</a:t>
            </a:r>
            <a:endParaRPr b="0" lang="en-US" sz="2000" spc="-1" strike="noStrike">
              <a:solidFill>
                <a:srgbClr val="4e3b30"/>
              </a:solidFill>
              <a:latin typeface="Franklin Gothic Book"/>
            </a:endParaRPr>
          </a:p>
        </p:txBody>
      </p:sp>
      <p:pic>
        <p:nvPicPr>
          <p:cNvPr id="419" name="Picture 3" descr="images-5.jpg"/>
          <p:cNvPicPr/>
          <p:nvPr/>
        </p:nvPicPr>
        <p:blipFill>
          <a:blip r:embed="rId3"/>
          <a:stretch/>
        </p:blipFill>
        <p:spPr>
          <a:xfrm>
            <a:off x="1523880" y="4210200"/>
            <a:ext cx="2221200" cy="1485720"/>
          </a:xfrm>
          <a:prstGeom prst="rect">
            <a:avLst/>
          </a:prstGeom>
          <a:ln w="0">
            <a:noFill/>
          </a:ln>
        </p:spPr>
      </p:pic>
      <p:pic>
        <p:nvPicPr>
          <p:cNvPr id="420" name="Picture 4" descr="images-6.jpg"/>
          <p:cNvPicPr/>
          <p:nvPr/>
        </p:nvPicPr>
        <p:blipFill>
          <a:blip r:embed="rId4"/>
          <a:stretch/>
        </p:blipFill>
        <p:spPr>
          <a:xfrm>
            <a:off x="4656240" y="4309920"/>
            <a:ext cx="2655720" cy="1770120"/>
          </a:xfrm>
          <a:prstGeom prst="rect">
            <a:avLst/>
          </a:prstGeom>
          <a:ln w="0">
            <a:noFill/>
          </a:ln>
        </p:spPr>
      </p:pic>
      <p:pic>
        <p:nvPicPr>
          <p:cNvPr id="421" name="Picture 5" descr="images-8.jpg"/>
          <p:cNvPicPr/>
          <p:nvPr/>
        </p:nvPicPr>
        <p:blipFill>
          <a:blip r:embed="rId5"/>
          <a:stretch/>
        </p:blipFill>
        <p:spPr>
          <a:xfrm>
            <a:off x="6858000" y="4952880"/>
            <a:ext cx="1333440" cy="1650960"/>
          </a:xfrm>
          <a:prstGeom prst="rect">
            <a:avLst/>
          </a:prstGeom>
          <a:ln w="0">
            <a:noFill/>
          </a:ln>
        </p:spPr>
      </p:pic>
      <p:pic>
        <p:nvPicPr>
          <p:cNvPr id="422" name="Picture 6" descr="images-9.jpg"/>
          <p:cNvPicPr/>
          <p:nvPr/>
        </p:nvPicPr>
        <p:blipFill>
          <a:blip r:embed="rId6"/>
          <a:stretch/>
        </p:blipFill>
        <p:spPr>
          <a:xfrm>
            <a:off x="3352680" y="5321160"/>
            <a:ext cx="1905120" cy="1282680"/>
          </a:xfrm>
          <a:prstGeom prst="rect">
            <a:avLst/>
          </a:prstGeom>
          <a:ln w="0">
            <a:noFill/>
          </a:ln>
        </p:spPr>
      </p:pic>
      <p:sp>
        <p:nvSpPr>
          <p:cNvPr id="423" name="TextBox 7"/>
          <p:cNvSpPr/>
          <p:nvPr/>
        </p:nvSpPr>
        <p:spPr>
          <a:xfrm>
            <a:off x="3745080" y="3505320"/>
            <a:ext cx="15127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se are pictures of children learning, also a sculpture, and a sculpture of musical instrum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9:51:08Z</dcterms:created>
  <dc:creator>student</dc:creator>
  <dc:description/>
  <dc:language>en-US</dc:language>
  <cp:lastModifiedBy>student</cp:lastModifiedBy>
  <dcterms:modified xsi:type="dcterms:W3CDTF">2009-11-19T22:07:48Z</dcterms:modified>
  <cp:revision>3</cp:revision>
  <dc:subject/>
  <dc:title>The Humanist Approach</dc:title>
</cp:coreProperties>
</file>