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png" ContentType="image/png"/>
  <Override PartName="/ppt/media/image3.png" ContentType="image/png"/>
  <Override PartName="/ppt/media/image19.png" ContentType="image/png"/>
  <Override PartName="/ppt/media/image17.png" ContentType="image/png"/>
  <Override PartName="/ppt/media/image15.jpeg" ContentType="image/jpeg"/>
  <Override PartName="/ppt/media/image2.png" ContentType="image/png"/>
  <Override PartName="/ppt/media/image4.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3487B-6F94-4038-84D9-0A34B757D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ED40A-872F-4DE7-A819-3B7644CCE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18BBFD-E85A-46DD-B119-507FC5E189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124638-C521-4A94-AE18-F0874E36B3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233F15-6CDD-48F4-881D-32CE82B230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02C3AE-4E8B-4B10-8C9F-25D7DEEC32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26D3EE-B7A8-4DBD-A389-CE14CE6410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FABE32-EBA1-441A-850A-944AA8D0B4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252A31-6B82-48E5-995F-12D6EA3D9E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F11226-692B-47F5-B3C8-01ADC6C128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921569-DDB1-47F7-91E4-AEF4B973C0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CC28E-9A7F-4713-BF81-B7C61B5BA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5D0E1-09C7-445C-9D04-A69ED2A6E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D22DA3-BEE9-4226-A6A7-29F9FA64F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101FC-434F-401C-8DF6-B73C9C918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132AD-E4F9-4D13-9E21-2FC866712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A2E66-6070-4A43-AAF4-D6FFF7A51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06815-C3D8-413B-801C-88D167000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67D4C-5E92-4536-AE0E-CB9930148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ABC6C-F713-4CC2-97F8-B93EF8A1F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BAD5B-146C-430F-A1F9-044F69FB9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263F1-E58E-467D-BA7A-A822047B4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7A4E6-95CA-47F7-902F-1EF64ED3A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51864-369B-43AF-BFA7-5CD90ED76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CA319A-1B76-4C0C-B193-B8CD85CB8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38B89-7DB8-4C50-A39B-E73D1119A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036F4B-A17D-45F2-B2E2-F7D69FFCD3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6CD650-DEDA-471D-B219-56F05D47D6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8580F5-425F-430C-9AC3-79E5A4EABE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BE4DF6-DEAB-4F1C-A41F-5FCB67EB0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842FE-F1FD-47AC-AE06-61751FD8CE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F83EF-6764-4F1C-94CD-0E3729594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F2FAC3-81AD-41DE-99A2-19F06F3FC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337B1D-F874-4C5F-BED7-C8E121F8D1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0248A-520B-43FD-9F38-CE23D718A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1339AB-3F0C-4711-BEA9-3DC4C6DE9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4C3D36-DBC8-4B11-935B-2DE4F0658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4DCB2A-761F-49AB-A11B-13FF311E4C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877034-14EC-471C-9492-5BBD01B70F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447390-58DD-4006-8B55-9C834190A2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62194F-6058-46A3-B88E-DF30C4EED3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756F59-AA1D-4F59-8BF8-84C346B842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93DAB-F9BC-4322-9C15-A83B359E2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80D8A6-60C1-4C9C-BAB7-EEF3B384F8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232863-33AE-48C8-94F7-6CB714D29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08F826-B7FB-4238-BDC7-2A43C1EF68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CC3F3-E6E6-40E1-A6A4-125352AB67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791171-84CE-46C5-B9BA-30DF9B3D78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3F6C28-5722-4DC9-B321-7DE53739DB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626F2-7011-40D0-BED7-420687AD59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28BDA9-C431-4ACA-B8C1-34E0EBA30F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230FE9-7AAC-46B9-A63F-7D05E21F51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A896D2-6395-4C6F-ABA3-0FB6475F5E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18AAE-FDAC-442E-937E-51F8C7279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5B4176-7845-4AD7-A99A-37CB95111B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D33475-C66A-4B03-AB78-C915522F41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2668D7-217A-46B3-8ECF-7D89CF0ADA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BA36FC-1508-4926-9D67-FDA5DE637A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E24B34-CAA7-4850-9035-901E061164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23C4BC-13FF-4C4B-8341-23B82D5056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A08C0-04E9-4210-805A-562C5321A2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837EEF-D048-49F7-90CB-F73D854FF1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088D5D-3E64-4BAA-B95D-8BDF599B13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CFB5B5-A64F-4218-AC8A-3E40980A47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7004A-1BCC-48C1-B31E-9B9249FDE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62F989-BBCC-460E-99E9-6E8D5CFA8E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917FC7-2FEA-4802-BA09-2CB444470B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7794C0-2330-4A13-B80E-5E48639BA6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5B7CB2-0653-497A-8548-83C87FF667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E2730F-7321-4883-8FCB-FEDD6B6389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C2EFA2-C527-43CE-87AC-7EAD21B8EF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93F205-D15A-4BF0-8214-CE4ED5378E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DBA6DE-6AD7-49DA-8F9D-4839B9246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0DD96-D5DD-4999-AFE4-E8E5A9B708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C0F875-AC7E-4217-AB23-B050CF9624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4FD9C-26DC-4670-A77C-CFFC1EEAF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4728D2-7C95-41E9-BBD6-935DC29FDB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DA3A85-F213-4A46-94DC-4C36766D8C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4EBDD0-7573-4D66-8985-099DD736ED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8CD305-2CA6-4A58-ACCD-1467B7DB1F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56C395-0B9D-41F6-9E4E-44161EE2EE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499665-6610-40A7-8C90-CEB47E3883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9A8B82-E7AF-45D1-9137-17B740FCA0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E68CB3-BA19-4D97-990B-03DD19649C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2706F7-4227-4C2D-AB7D-602E574D72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C18E07-4269-43B1-8F04-9DD9A39EEB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FAE01-A8CD-4065-B2D8-3AEE7D50F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A0D189-3D49-4512-B47B-11E885CC67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B97175-5F31-49FC-91B9-8901218994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D98E1A-5E32-4585-9F67-F8ECD20EA8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40BE47-11B1-48C8-B903-011483E7DF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71F28F-BAA8-4FD4-AD5E-CFEBF296E8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F29511-5825-49EB-9F5B-34C2798132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AD5077-55D7-4E6E-9D78-2FECB8D67C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3CA6E8-D5B0-4335-97F1-D8D22C8F81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2C8E92-4858-482F-9A4B-73F93BB768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CD0089-200C-445C-BA67-B79CD4AEA6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C0CD4-38F6-4963-BC5E-7553DE64F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C6E387-8EB1-49B2-9515-7711FC9D4B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3EB758-07D8-4793-AC32-ABF0843E8E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9A8A15-AE8B-4D9F-A64C-181D460906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0B4B78-774E-4FE6-917A-5D326611CD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DF1378-A6E6-45F8-92A4-157267D6A8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787C1E-87E1-4D84-8990-476627F7DC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875568-2EEC-420A-B82B-D64C33CF05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4BCFE6-B66F-4E21-89D6-9295EBD5E9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52B670-AB28-4456-8647-6324A5376D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3E82AD-DC29-48E9-871A-CF33EE4F1F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13670-5BD3-432F-9F70-395138414857}"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1CDCB1-340B-4B2A-B19C-5E1F21459C6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BB4A8A-09A5-405B-B503-F965BC0DF860}"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81352-8B7E-493E-8D6C-FF3F2C90631A}"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277E5E-88F0-45D3-A026-F1AB13343696}"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F3AC4-4DD4-4944-AF82-54A1738666C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2EA981-E5CA-4355-895D-C485AAFC8E84}"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F9F80-449A-4E8C-8E8E-A833A25F117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CC8E6C-DE48-4925-9056-B010EF9D9F3B}"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CAD01-9E6D-4B33-A922-3E45D97C6D2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A2E08-3E0B-4671-BD88-333E13497E1C}"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15C66-B0FA-43C4-9F1D-7B964054F56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ABE743-AEE7-45C5-927C-950D42860EFE}"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ACD796-F4A5-4348-843B-B73DC98340A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5DEA0-90F4-4491-91DC-EBE42BF736A1}"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E1265-6CF4-4A8F-977E-D10D6F9C0E98}"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419B4-A678-4D75-A082-1148F8AA232C}"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5EB00-68C0-4DB9-86D3-29A0E22F219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itle 1" descr=""/>
          <p:cNvPicPr/>
          <p:nvPr/>
        </p:nvPicPr>
        <p:blipFill>
          <a:blip r:embed="rId2"/>
          <a:stretch/>
        </p:blipFill>
        <p:spPr>
          <a:xfrm>
            <a:off x="378000" y="4846680"/>
            <a:ext cx="8467560" cy="1236600"/>
          </a:xfrm>
          <a:prstGeom prst="rect">
            <a:avLst/>
          </a:prstGeom>
          <a:ln w="0">
            <a:noFill/>
          </a:ln>
        </p:spPr>
      </p:pic>
      <p:sp>
        <p:nvSpPr>
          <p:cNvPr id="400"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My Virtual Museum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By: Kelsi Jon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Title 1" descr=""/>
          <p:cNvPicPr/>
          <p:nvPr/>
        </p:nvPicPr>
        <p:blipFill>
          <a:blip r:embed="rId2"/>
          <a:stretch/>
        </p:blipFill>
        <p:spPr>
          <a:xfrm>
            <a:off x="298440" y="450720"/>
            <a:ext cx="8699400" cy="987480"/>
          </a:xfrm>
          <a:prstGeom prst="rect">
            <a:avLst/>
          </a:prstGeom>
          <a:ln w="0">
            <a:noFill/>
          </a:ln>
        </p:spPr>
      </p:pic>
      <p:sp>
        <p:nvSpPr>
          <p:cNvPr id="402" name=""/>
          <p:cNvSpPr txBox="1"/>
          <p:nvPr/>
        </p:nvSpPr>
        <p:spPr>
          <a:xfrm>
            <a:off x="304920" y="1554120"/>
            <a:ext cx="86868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The women finely decorated their dresses. Typical Renaissance clothing was not just limited to England, which was ruled by Queen Elizabeth, but its influence spread to other European countries such as Spain, France, Italy, Germany, Flanders, and Poland. The rich wore articles of clothing made of velvet, satin, and cotton. The poor wore flannel, and other cheap materials.</a:t>
            </a:r>
            <a:endParaRPr b="0" lang="en-US" sz="2000" spc="-1" strike="noStrike">
              <a:solidFill>
                <a:srgbClr val="4e3b30"/>
              </a:solidFill>
              <a:latin typeface="Franklin Gothic Book"/>
            </a:endParaRPr>
          </a:p>
        </p:txBody>
      </p:sp>
      <p:pic>
        <p:nvPicPr>
          <p:cNvPr id="403" name="Picture 7" descr="renaissance-clothing-1.jpg"/>
          <p:cNvPicPr/>
          <p:nvPr/>
        </p:nvPicPr>
        <p:blipFill>
          <a:blip r:embed="rId3"/>
          <a:stretch/>
        </p:blipFill>
        <p:spPr>
          <a:xfrm>
            <a:off x="6761160" y="3124080"/>
            <a:ext cx="2230560" cy="1932120"/>
          </a:xfrm>
          <a:prstGeom prst="rect">
            <a:avLst/>
          </a:prstGeom>
          <a:ln w="0">
            <a:noFill/>
          </a:ln>
        </p:spPr>
      </p:pic>
      <p:pic>
        <p:nvPicPr>
          <p:cNvPr id="404" name="Picture 8" descr="images-1.jpg"/>
          <p:cNvPicPr/>
          <p:nvPr/>
        </p:nvPicPr>
        <p:blipFill>
          <a:blip r:embed="rId4"/>
          <a:stretch/>
        </p:blipFill>
        <p:spPr>
          <a:xfrm>
            <a:off x="304920" y="3124080"/>
            <a:ext cx="1600200" cy="1600200"/>
          </a:xfrm>
          <a:prstGeom prst="rect">
            <a:avLst/>
          </a:prstGeom>
          <a:ln w="0">
            <a:noFill/>
          </a:ln>
        </p:spPr>
      </p:pic>
      <p:pic>
        <p:nvPicPr>
          <p:cNvPr id="405" name="Picture 9" descr="images.jpg"/>
          <p:cNvPicPr/>
          <p:nvPr/>
        </p:nvPicPr>
        <p:blipFill>
          <a:blip r:embed="rId5"/>
          <a:stretch/>
        </p:blipFill>
        <p:spPr>
          <a:xfrm>
            <a:off x="3701880" y="3352680"/>
            <a:ext cx="2421000" cy="2122560"/>
          </a:xfrm>
          <a:prstGeom prst="rect">
            <a:avLst/>
          </a:prstGeom>
          <a:ln w="0">
            <a:noFill/>
          </a:ln>
        </p:spPr>
      </p:pic>
      <p:sp>
        <p:nvSpPr>
          <p:cNvPr id="406" name="TextBox 6"/>
          <p:cNvSpPr/>
          <p:nvPr/>
        </p:nvSpPr>
        <p:spPr>
          <a:xfrm>
            <a:off x="3701880" y="5475240"/>
            <a:ext cx="2622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s is a Renaissance dress. They are both for the rich, but the one on the right, is for the very wealthy. </a:t>
            </a:r>
            <a:endParaRPr b="0" lang="en-US" sz="1000" spc="-1" strike="noStrike">
              <a:solidFill>
                <a:srgbClr val="000000"/>
              </a:solidFill>
              <a:latin typeface="Arial"/>
            </a:endParaRPr>
          </a:p>
        </p:txBody>
      </p:sp>
      <p:sp>
        <p:nvSpPr>
          <p:cNvPr id="407" name="TextBox 7"/>
          <p:cNvSpPr/>
          <p:nvPr/>
        </p:nvSpPr>
        <p:spPr>
          <a:xfrm>
            <a:off x="304920" y="5056200"/>
            <a:ext cx="13716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 this picture, it would be what a fighter would wear. He’s wearing tights, and a tunic. Equipped with a swor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Title 1" descr=""/>
          <p:cNvPicPr/>
          <p:nvPr/>
        </p:nvPicPr>
        <p:blipFill>
          <a:blip r:embed="rId2"/>
          <a:stretch/>
        </p:blipFill>
        <p:spPr>
          <a:xfrm>
            <a:off x="298440" y="450720"/>
            <a:ext cx="8699400" cy="105408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umanist believed in good education, and being an individual. I guess they would contribute to society by following those rules. They also liked classical writings, and many other art sources. </a:t>
            </a:r>
            <a:endParaRPr b="0" lang="en-US" sz="3200" spc="-1" strike="noStrike">
              <a:solidFill>
                <a:srgbClr val="4e3b30"/>
              </a:solidFill>
              <a:latin typeface="Franklin Gothic Book"/>
            </a:endParaRPr>
          </a:p>
        </p:txBody>
      </p:sp>
      <p:pic>
        <p:nvPicPr>
          <p:cNvPr id="410" name="Picture 3" descr="images-2.jpg"/>
          <p:cNvPicPr/>
          <p:nvPr/>
        </p:nvPicPr>
        <p:blipFill>
          <a:blip r:embed="rId3"/>
          <a:stretch/>
        </p:blipFill>
        <p:spPr>
          <a:xfrm>
            <a:off x="304920" y="3726000"/>
            <a:ext cx="1609560" cy="2354040"/>
          </a:xfrm>
          <a:prstGeom prst="rect">
            <a:avLst/>
          </a:prstGeom>
          <a:ln w="0">
            <a:noFill/>
          </a:ln>
        </p:spPr>
      </p:pic>
      <p:pic>
        <p:nvPicPr>
          <p:cNvPr id="411" name="Picture 4" descr="images-3.jpg"/>
          <p:cNvPicPr/>
          <p:nvPr/>
        </p:nvPicPr>
        <p:blipFill>
          <a:blip r:embed="rId4"/>
          <a:stretch/>
        </p:blipFill>
        <p:spPr>
          <a:xfrm>
            <a:off x="5638680" y="3929040"/>
            <a:ext cx="2167200" cy="2166840"/>
          </a:xfrm>
          <a:prstGeom prst="rect">
            <a:avLst/>
          </a:prstGeom>
          <a:ln w="0">
            <a:noFill/>
          </a:ln>
        </p:spPr>
      </p:pic>
      <p:pic>
        <p:nvPicPr>
          <p:cNvPr id="412" name="Picture 5" descr="images-7.jpg"/>
          <p:cNvPicPr/>
          <p:nvPr/>
        </p:nvPicPr>
        <p:blipFill>
          <a:blip r:embed="rId5"/>
          <a:stretch/>
        </p:blipFill>
        <p:spPr>
          <a:xfrm>
            <a:off x="3478320" y="3929040"/>
            <a:ext cx="12697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3" name="Title 1" descr=""/>
          <p:cNvPicPr/>
          <p:nvPr/>
        </p:nvPicPr>
        <p:blipFill>
          <a:blip r:embed="rId2"/>
          <a:stretch/>
        </p:blipFill>
        <p:spPr>
          <a:xfrm>
            <a:off x="298440" y="450720"/>
            <a:ext cx="8699400" cy="105408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importance of being an individual, is that you can believe in whatever you want to believe in. You can just be yourself. Also, you don’t care what other people think about you. </a:t>
            </a:r>
            <a:endParaRPr b="0" lang="en-US" sz="3200" spc="-1" strike="noStrike">
              <a:solidFill>
                <a:srgbClr val="4e3b30"/>
              </a:solidFill>
              <a:latin typeface="Franklin Gothic Book"/>
            </a:endParaRPr>
          </a:p>
        </p:txBody>
      </p:sp>
      <p:pic>
        <p:nvPicPr>
          <p:cNvPr id="415" name="Picture 3" descr="images-4.jpg"/>
          <p:cNvPicPr/>
          <p:nvPr/>
        </p:nvPicPr>
        <p:blipFill>
          <a:blip r:embed="rId3"/>
          <a:stretch/>
        </p:blipFill>
        <p:spPr>
          <a:xfrm>
            <a:off x="304920" y="3492360"/>
            <a:ext cx="2346120" cy="1549440"/>
          </a:xfrm>
          <a:prstGeom prst="rect">
            <a:avLst/>
          </a:prstGeom>
          <a:ln w="0">
            <a:noFill/>
          </a:ln>
        </p:spPr>
      </p:pic>
      <p:pic>
        <p:nvPicPr>
          <p:cNvPr id="416" name="Picture 4" descr="corrosive-individualism.png"/>
          <p:cNvPicPr/>
          <p:nvPr/>
        </p:nvPicPr>
        <p:blipFill>
          <a:blip r:embed="rId4"/>
          <a:stretch/>
        </p:blipFill>
        <p:spPr>
          <a:xfrm>
            <a:off x="4175280" y="3763800"/>
            <a:ext cx="4206600" cy="309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7" name="Title 1" descr=""/>
          <p:cNvPicPr/>
          <p:nvPr/>
        </p:nvPicPr>
        <p:blipFill>
          <a:blip r:embed="rId2"/>
          <a:stretch/>
        </p:blipFill>
        <p:spPr>
          <a:xfrm>
            <a:off x="298440" y="450720"/>
            <a:ext cx="8699400" cy="105408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anchor="t">
            <a:normAutofit/>
          </a:bodyPr>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Learning was important, and still is. It helps you get a job. Humanist strongly believed in good education. They were also really into the artsy stuff. Also, they got scholars for their children, the scholars were for mathematics, sciences, and ancient history.</a:t>
            </a:r>
            <a:endParaRPr b="0" lang="en-US" sz="2000" spc="-1" strike="noStrike">
              <a:solidFill>
                <a:srgbClr val="4e3b30"/>
              </a:solidFill>
              <a:latin typeface="Franklin Gothic Book"/>
            </a:endParaRPr>
          </a:p>
        </p:txBody>
      </p:sp>
      <p:pic>
        <p:nvPicPr>
          <p:cNvPr id="419" name="Picture 3" descr="images-5.jpg"/>
          <p:cNvPicPr/>
          <p:nvPr/>
        </p:nvPicPr>
        <p:blipFill>
          <a:blip r:embed="rId3"/>
          <a:stretch/>
        </p:blipFill>
        <p:spPr>
          <a:xfrm>
            <a:off x="1523880" y="4210200"/>
            <a:ext cx="2221200" cy="1485720"/>
          </a:xfrm>
          <a:prstGeom prst="rect">
            <a:avLst/>
          </a:prstGeom>
          <a:ln w="0">
            <a:noFill/>
          </a:ln>
        </p:spPr>
      </p:pic>
      <p:pic>
        <p:nvPicPr>
          <p:cNvPr id="420" name="Picture 4" descr="images-6.jpg"/>
          <p:cNvPicPr/>
          <p:nvPr/>
        </p:nvPicPr>
        <p:blipFill>
          <a:blip r:embed="rId4"/>
          <a:stretch/>
        </p:blipFill>
        <p:spPr>
          <a:xfrm>
            <a:off x="4656240" y="4309920"/>
            <a:ext cx="2655720" cy="1770120"/>
          </a:xfrm>
          <a:prstGeom prst="rect">
            <a:avLst/>
          </a:prstGeom>
          <a:ln w="0">
            <a:noFill/>
          </a:ln>
        </p:spPr>
      </p:pic>
      <p:pic>
        <p:nvPicPr>
          <p:cNvPr id="421" name="Picture 5" descr="images-8.jpg"/>
          <p:cNvPicPr/>
          <p:nvPr/>
        </p:nvPicPr>
        <p:blipFill>
          <a:blip r:embed="rId5"/>
          <a:stretch/>
        </p:blipFill>
        <p:spPr>
          <a:xfrm>
            <a:off x="6858000" y="4952880"/>
            <a:ext cx="1333440" cy="1650960"/>
          </a:xfrm>
          <a:prstGeom prst="rect">
            <a:avLst/>
          </a:prstGeom>
          <a:ln w="0">
            <a:noFill/>
          </a:ln>
        </p:spPr>
      </p:pic>
      <p:pic>
        <p:nvPicPr>
          <p:cNvPr id="422" name="Picture 6" descr="images-9.jpg"/>
          <p:cNvPicPr/>
          <p:nvPr/>
        </p:nvPicPr>
        <p:blipFill>
          <a:blip r:embed="rId6"/>
          <a:stretch/>
        </p:blipFill>
        <p:spPr>
          <a:xfrm>
            <a:off x="3352680" y="5321160"/>
            <a:ext cx="1905120" cy="1282680"/>
          </a:xfrm>
          <a:prstGeom prst="rect">
            <a:avLst/>
          </a:prstGeom>
          <a:ln w="0">
            <a:noFill/>
          </a:ln>
        </p:spPr>
      </p:pic>
      <p:sp>
        <p:nvSpPr>
          <p:cNvPr id="423" name="TextBox 7"/>
          <p:cNvSpPr/>
          <p:nvPr/>
        </p:nvSpPr>
        <p:spPr>
          <a:xfrm>
            <a:off x="3745080" y="3505320"/>
            <a:ext cx="15127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se are pictures of children learning, also a sculpture, and a sculpture of musical instrum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9:51:08Z</dcterms:created>
  <dc:creator>student</dc:creator>
  <dc:description/>
  <dc:language>en-US</dc:language>
  <cp:lastModifiedBy>student</cp:lastModifiedBy>
  <dcterms:modified xsi:type="dcterms:W3CDTF">2009-11-19T22:07:48Z</dcterms:modified>
  <cp:revision>3</cp:revision>
  <dc:subject/>
  <dc:title>The Humanist Approach</dc:title>
</cp:coreProperties>
</file>