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3.png" ContentType="image/png"/>
  <Override PartName="/ppt/media/image19.png" ContentType="image/png"/>
  <Override PartName="/ppt/media/image17.png" ContentType="image/png"/>
  <Override PartName="/ppt/media/image15.jpeg" ContentType="image/jpeg"/>
  <Override PartName="/ppt/media/image2.png" ContentType="image/png"/>
  <Override PartName="/ppt/media/image4.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54C20-1790-43E8-A75C-8604B9647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C5C75-8EDA-48D4-9D95-4C0001282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9408D9-FC25-4A42-A931-A7CCBB6B98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BC12E4-86ED-440D-BA2D-F49435BA89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1875C6-B917-4DB0-A20A-5CF76DFB04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757BB3-3C93-4AE6-8967-17EBFFD02E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58B33C-9DFA-4D1A-AC8A-B7391B63C2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FAC3D0-32C2-4A1A-AD0A-0BD30AAA3E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56E087-40EB-4B70-805E-B6A447A38A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6E669B-BD18-4517-ABB3-F6E266AD6D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78F152-C457-4EFE-8A83-48D3BFDCEA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F1D27-9D82-42A8-9E71-F6D0CA50D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2E72A-70C6-417A-B7BD-8316EAB5C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29F68-6EB9-4B7D-94B4-E6994C2AB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7C6A0-7469-47D1-A3A0-AC15223E3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5565A-71DE-484D-8EA4-FA7AE6A41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95A37-2BE8-47D9-A49B-F5EF17C06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23DDD-06E2-4A8D-A15D-93EC61DF3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C2CF7-26FD-499B-BC40-9318302F7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BF347-2321-4739-A84F-3231ACC37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F2D07-FF93-4D27-92C6-340EA2BC6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E3EB3-9264-4ECC-AFC2-CE1611D89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6AFDA-5D63-4433-A12E-9A1A2AFA9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66BB6-4DD7-46A8-8095-BFCB8038A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C56A3-C8AF-4529-B6B2-9A6C2FB90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D9A07-659F-4B87-97F0-A81933752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C967A5-A1CF-4B82-A6D4-39F2FB2E99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99335E-D4AF-4630-A759-BD41C44938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3B619-E29F-4344-A8DC-FA303B700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5E8B1E-BACD-49EA-8229-40BCA7842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A3DEE3-E420-463D-94D8-4FE3998C80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DB56D-2ABC-4F3A-9789-4C52BB97C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191049-1AD6-4052-A883-B3AEE12B2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5B521-4C27-4CD7-BDE3-20F3A40B7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EE663-FBC5-4AE6-B059-5493C3297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50CA9-CFBC-4157-BB95-4E9A7EA8C6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8B7713-452E-4D70-9597-D8F78E06FB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C7EF33-FDE8-460E-8470-B040AB29A3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CEBAFE-A5C7-4C00-8260-B3BF688117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EDE5F6-50F9-4BEE-8F1E-F216C0977F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AC2CA7-4E14-4B48-82AE-9EAFAB821E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315F36-D7C3-474F-BF37-02A5759EA6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ED094-415A-4C05-B1D0-3FC35424A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BB13F4-8E72-481A-93DA-A3C0939A47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E666F2-16B4-46C6-A866-596D49A35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85E2C-9F52-4D20-B889-3DABCCF8D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6D344-3530-4FAC-AE37-A4C650617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2A8A1A-680E-41B6-805A-4B236889E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D15AF-72FE-4CF6-9528-EECAD4E9E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6A98A5-8D43-46CA-8920-2DB1173685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48EB80-3673-4B08-B138-EE0A89A7C3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B6CE94-93D0-4E99-888D-DD8B5AED71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CC231E-CA49-4087-A840-6BCD8F085F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44AC5-9E9C-4039-924B-F61C2125E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4FE77-9984-4B73-B0EA-61E426753C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82326F-0976-4D1F-BE17-DBD2666F03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E534E4-8AD2-4228-A8AA-88C660AB42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56FEF1-9CD7-4A4F-8F55-BAF7CAF7C5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FFEB23-92DC-40FC-87CC-0F0DDCD2BB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38EF5D-3D37-43ED-B685-91196A65E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BA4318-34F7-4F42-B35D-52C190913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650277-1389-499B-AEEC-2D5B994FE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D65CF5-513A-49C9-BF5D-1EA3B035C5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77379A-D181-422E-B572-9141620855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0FAD2-DA61-4671-B785-C3BC46A87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3F057F-7F3C-4C5B-B9DD-3940DB8F3A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8442A2-D9B2-477D-B2C7-A308DCBD43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647299-C4B1-4C0C-9345-20E8D67E2F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18A15A-0064-43E2-96EA-EDBF0B2C0B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9BF3E3-FB81-4116-A2E9-E2DE2C526A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0551E5-595A-4FD6-8F3F-2833CABF95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B619C7-FFB0-42D8-9EC9-BBB3F19536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870BB0-914F-415A-A026-489071484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31EDB6-B40A-4D09-8BCC-2E1AFC485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5BDD1B-9F8A-4CD1-99A0-75B3A814A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CFEBC-0637-44ED-A0C6-6BAC9EAFA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4AE8BE-45EB-4164-B94A-D48A79550B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D37A43-A255-44C0-A000-14A74547EC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C4E376-DD9E-4031-B0A9-D6E57BB6A7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335B60-E4CD-480C-AA13-88449326C7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311468-C3A3-4892-9169-7F1E49A8A8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C428DA-2266-43DC-BF64-7E987D258C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AC5A7C-D567-41EE-A0B3-E2704CF223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F00C94-914A-4CD2-8EB5-EA6F0A3FE4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50B6BD-6CCB-4DEB-B3F7-D4C2ABEE43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66E72C-9F51-4BEA-B57B-EE9A6A94BB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A81FF-B2AF-4B8A-877A-91B3A039E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4F8BC2-297F-45EF-8DF7-9348390FB5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9E3F9E-C333-4EFD-8ED3-EBAE4FDDEC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D257A8-054B-4898-8652-8FF31E0D12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A3DED0-3188-4065-BAEC-1DA1A68760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5DA820-44FC-437F-839F-D223DFD780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508DA3-6B86-4093-BEEF-76D68B14A0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F170AF-9501-4E08-A088-7AD43D6A83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E45B92-8695-4E4D-A255-851130DFA0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0BABC3-C74A-46B3-83C9-D9E4E1B8E7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9508F6-7F4C-4FFD-87C3-BDB8DF5671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29400-72E3-47CB-BECC-834086C82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83AB6F-5A9C-4233-B48C-1AC6CDB3E9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0E1CF3-1649-47DB-845F-CF97CF58E1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3BB63B-D657-413C-8F5F-325E0A5DF3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30AE4-51B3-44F4-910A-5F98E9A34C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B1DC03-2096-464F-A0C2-0867E12317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DE322B-D170-4724-93AD-1F64C27AE4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9D61D3-3E99-4859-8D78-ECFA695A0D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37C844-7FEE-4747-9A5B-2A9D0533C3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44E991-38BA-46BE-8905-4DB1D00794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89F139-63FE-46B7-B36F-545BF5A07E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2B358-71E4-422D-A2F2-FC9201F4EC89}"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95E4E-4E7D-422E-8FF6-E11592F8E2E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ECC1E-EA49-4854-B0C7-8F10C5FE8F78}"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151B4-9E46-4E71-B485-9654CD8F535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12733-5BA1-42F1-BB40-661075F379CF}"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2C4C5-E8C4-41B3-9604-D9F0FC4CA14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EBCD2-CFF0-4F99-9457-D896E11F582E}"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9D51B-10B8-442A-9EB9-63D03039F0A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EC45D-E389-4D79-9004-0C96B4F6285B}"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65250-CF6A-44B7-8609-2BE6213CB0D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37DED-6D56-4631-ADBA-68B2A4A3C6B4}"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DA33F-0530-4536-94D8-FE4F998D11A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AD455-3D55-4DCB-82F1-D4F21724E6C5}"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E3FDC-636C-4BDF-ADD4-25C9F400CA4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88675-9EDF-4713-83BB-68279201DE4D}"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E800B-F781-4511-8C8E-45035C17AE0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F5302-B246-46DF-A0D2-942672F8413C}"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D3E7C-8658-4719-AE11-6DCD30C84B2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1" descr=""/>
          <p:cNvPicPr/>
          <p:nvPr/>
        </p:nvPicPr>
        <p:blipFill>
          <a:blip r:embed="rId2"/>
          <a:stretch/>
        </p:blipFill>
        <p:spPr>
          <a:xfrm>
            <a:off x="378000" y="4846680"/>
            <a:ext cx="8467560" cy="1236600"/>
          </a:xfrm>
          <a:prstGeom prst="rect">
            <a:avLst/>
          </a:prstGeom>
          <a:ln w="0">
            <a:noFill/>
          </a:ln>
        </p:spPr>
      </p:pic>
      <p:sp>
        <p:nvSpPr>
          <p:cNvPr id="400"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My Virtual Museum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By: Kelsi Jon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298440" y="450720"/>
            <a:ext cx="8699400" cy="987480"/>
          </a:xfrm>
          <a:prstGeom prst="rect">
            <a:avLst/>
          </a:prstGeom>
          <a:ln w="0">
            <a:noFill/>
          </a:ln>
        </p:spPr>
      </p:pic>
      <p:sp>
        <p:nvSpPr>
          <p:cNvPr id="402" name=""/>
          <p:cNvSpPr txBox="1"/>
          <p:nvPr/>
        </p:nvSpPr>
        <p:spPr>
          <a:xfrm>
            <a:off x="304920" y="1554120"/>
            <a:ext cx="86868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The women finely decorated their dresses. Typical Renaissance clothing was not just limited to England, which was ruled by Queen Elizabeth, but its influence spread to other European countries such as Spain, France, Italy, Germany, Flanders, and Poland. The rich wore articles of clothing made of velvet, satin, and cotton. The poor wore flannel, and other cheap materials.</a:t>
            </a:r>
            <a:endParaRPr b="0" lang="en-US" sz="2000" spc="-1" strike="noStrike">
              <a:solidFill>
                <a:srgbClr val="4e3b30"/>
              </a:solidFill>
              <a:latin typeface="Franklin Gothic Book"/>
            </a:endParaRPr>
          </a:p>
        </p:txBody>
      </p:sp>
      <p:pic>
        <p:nvPicPr>
          <p:cNvPr id="403" name="Picture 7" descr="renaissance-clothing-1.jpg"/>
          <p:cNvPicPr/>
          <p:nvPr/>
        </p:nvPicPr>
        <p:blipFill>
          <a:blip r:embed="rId3"/>
          <a:stretch/>
        </p:blipFill>
        <p:spPr>
          <a:xfrm>
            <a:off x="6761160" y="3124080"/>
            <a:ext cx="2230560" cy="1932120"/>
          </a:xfrm>
          <a:prstGeom prst="rect">
            <a:avLst/>
          </a:prstGeom>
          <a:ln w="0">
            <a:noFill/>
          </a:ln>
        </p:spPr>
      </p:pic>
      <p:pic>
        <p:nvPicPr>
          <p:cNvPr id="404" name="Picture 8" descr="images-1.jpg"/>
          <p:cNvPicPr/>
          <p:nvPr/>
        </p:nvPicPr>
        <p:blipFill>
          <a:blip r:embed="rId4"/>
          <a:stretch/>
        </p:blipFill>
        <p:spPr>
          <a:xfrm>
            <a:off x="304920" y="3124080"/>
            <a:ext cx="1600200" cy="1600200"/>
          </a:xfrm>
          <a:prstGeom prst="rect">
            <a:avLst/>
          </a:prstGeom>
          <a:ln w="0">
            <a:noFill/>
          </a:ln>
        </p:spPr>
      </p:pic>
      <p:pic>
        <p:nvPicPr>
          <p:cNvPr id="405" name="Picture 9" descr="images.jpg"/>
          <p:cNvPicPr/>
          <p:nvPr/>
        </p:nvPicPr>
        <p:blipFill>
          <a:blip r:embed="rId5"/>
          <a:stretch/>
        </p:blipFill>
        <p:spPr>
          <a:xfrm>
            <a:off x="3701880" y="3352680"/>
            <a:ext cx="2421000" cy="2122560"/>
          </a:xfrm>
          <a:prstGeom prst="rect">
            <a:avLst/>
          </a:prstGeom>
          <a:ln w="0">
            <a:noFill/>
          </a:ln>
        </p:spPr>
      </p:pic>
      <p:sp>
        <p:nvSpPr>
          <p:cNvPr id="406" name="TextBox 6"/>
          <p:cNvSpPr/>
          <p:nvPr/>
        </p:nvSpPr>
        <p:spPr>
          <a:xfrm>
            <a:off x="3701880" y="5475240"/>
            <a:ext cx="2622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is a Renaissance dress. They are both for the rich, but the one on the right, is for the very wealthy. </a:t>
            </a:r>
            <a:endParaRPr b="0" lang="en-US" sz="1000" spc="-1" strike="noStrike">
              <a:solidFill>
                <a:srgbClr val="000000"/>
              </a:solidFill>
              <a:latin typeface="Arial"/>
            </a:endParaRPr>
          </a:p>
        </p:txBody>
      </p:sp>
      <p:sp>
        <p:nvSpPr>
          <p:cNvPr id="407" name="TextBox 7"/>
          <p:cNvSpPr/>
          <p:nvPr/>
        </p:nvSpPr>
        <p:spPr>
          <a:xfrm>
            <a:off x="304920" y="5056200"/>
            <a:ext cx="13716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 this picture, it would be what a fighter would wear. He’s wearing tights, and a tunic. Equipped with a swor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Title 1" descr=""/>
          <p:cNvPicPr/>
          <p:nvPr/>
        </p:nvPicPr>
        <p:blipFill>
          <a:blip r:embed="rId2"/>
          <a:stretch/>
        </p:blipFill>
        <p:spPr>
          <a:xfrm>
            <a:off x="298440" y="450720"/>
            <a:ext cx="8699400" cy="105408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umanist believed in good education, and being an individual. I guess they would contribute to society by following those rules. They also liked classical writings, and many other art sources. </a:t>
            </a:r>
            <a:endParaRPr b="0" lang="en-US" sz="3200" spc="-1" strike="noStrike">
              <a:solidFill>
                <a:srgbClr val="4e3b30"/>
              </a:solidFill>
              <a:latin typeface="Franklin Gothic Book"/>
            </a:endParaRPr>
          </a:p>
        </p:txBody>
      </p:sp>
      <p:pic>
        <p:nvPicPr>
          <p:cNvPr id="410" name="Picture 3" descr="images-2.jpg"/>
          <p:cNvPicPr/>
          <p:nvPr/>
        </p:nvPicPr>
        <p:blipFill>
          <a:blip r:embed="rId3"/>
          <a:stretch/>
        </p:blipFill>
        <p:spPr>
          <a:xfrm>
            <a:off x="304920" y="3726000"/>
            <a:ext cx="1609560" cy="2354040"/>
          </a:xfrm>
          <a:prstGeom prst="rect">
            <a:avLst/>
          </a:prstGeom>
          <a:ln w="0">
            <a:noFill/>
          </a:ln>
        </p:spPr>
      </p:pic>
      <p:pic>
        <p:nvPicPr>
          <p:cNvPr id="411" name="Picture 4" descr="images-3.jpg"/>
          <p:cNvPicPr/>
          <p:nvPr/>
        </p:nvPicPr>
        <p:blipFill>
          <a:blip r:embed="rId4"/>
          <a:stretch/>
        </p:blipFill>
        <p:spPr>
          <a:xfrm>
            <a:off x="5638680" y="3929040"/>
            <a:ext cx="2167200" cy="2166840"/>
          </a:xfrm>
          <a:prstGeom prst="rect">
            <a:avLst/>
          </a:prstGeom>
          <a:ln w="0">
            <a:noFill/>
          </a:ln>
        </p:spPr>
      </p:pic>
      <p:pic>
        <p:nvPicPr>
          <p:cNvPr id="412" name="Picture 5" descr="images-7.jpg"/>
          <p:cNvPicPr/>
          <p:nvPr/>
        </p:nvPicPr>
        <p:blipFill>
          <a:blip r:embed="rId5"/>
          <a:stretch/>
        </p:blipFill>
        <p:spPr>
          <a:xfrm>
            <a:off x="3478320" y="3929040"/>
            <a:ext cx="12697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Title 1" descr=""/>
          <p:cNvPicPr/>
          <p:nvPr/>
        </p:nvPicPr>
        <p:blipFill>
          <a:blip r:embed="rId2"/>
          <a:stretch/>
        </p:blipFill>
        <p:spPr>
          <a:xfrm>
            <a:off x="298440" y="450720"/>
            <a:ext cx="8699400" cy="105408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importance of being an individual, is that you can believe in whatever you want to believe in. You can just be yourself. Also, you don’t care what other people think about you. </a:t>
            </a:r>
            <a:endParaRPr b="0" lang="en-US" sz="3200" spc="-1" strike="noStrike">
              <a:solidFill>
                <a:srgbClr val="4e3b30"/>
              </a:solidFill>
              <a:latin typeface="Franklin Gothic Book"/>
            </a:endParaRPr>
          </a:p>
        </p:txBody>
      </p:sp>
      <p:pic>
        <p:nvPicPr>
          <p:cNvPr id="415" name="Picture 3" descr="images-4.jpg"/>
          <p:cNvPicPr/>
          <p:nvPr/>
        </p:nvPicPr>
        <p:blipFill>
          <a:blip r:embed="rId3"/>
          <a:stretch/>
        </p:blipFill>
        <p:spPr>
          <a:xfrm>
            <a:off x="304920" y="3492360"/>
            <a:ext cx="2346120" cy="1549440"/>
          </a:xfrm>
          <a:prstGeom prst="rect">
            <a:avLst/>
          </a:prstGeom>
          <a:ln w="0">
            <a:noFill/>
          </a:ln>
        </p:spPr>
      </p:pic>
      <p:pic>
        <p:nvPicPr>
          <p:cNvPr id="416" name="Picture 4" descr="corrosive-individualism.png"/>
          <p:cNvPicPr/>
          <p:nvPr/>
        </p:nvPicPr>
        <p:blipFill>
          <a:blip r:embed="rId4"/>
          <a:stretch/>
        </p:blipFill>
        <p:spPr>
          <a:xfrm>
            <a:off x="4175280" y="3763800"/>
            <a:ext cx="4206600" cy="309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Title 1" descr=""/>
          <p:cNvPicPr/>
          <p:nvPr/>
        </p:nvPicPr>
        <p:blipFill>
          <a:blip r:embed="rId2"/>
          <a:stretch/>
        </p:blipFill>
        <p:spPr>
          <a:xfrm>
            <a:off x="298440" y="450720"/>
            <a:ext cx="8699400" cy="105408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Learning was important, and still is. It helps you get a job. Humanist strongly believed in good education. They were also really into the artsy stuff. Also, they got scholars for their children, the scholars were for mathematics, sciences, and ancient history.</a:t>
            </a:r>
            <a:endParaRPr b="0" lang="en-US" sz="2000" spc="-1" strike="noStrike">
              <a:solidFill>
                <a:srgbClr val="4e3b30"/>
              </a:solidFill>
              <a:latin typeface="Franklin Gothic Book"/>
            </a:endParaRPr>
          </a:p>
        </p:txBody>
      </p:sp>
      <p:pic>
        <p:nvPicPr>
          <p:cNvPr id="419" name="Picture 3" descr="images-5.jpg"/>
          <p:cNvPicPr/>
          <p:nvPr/>
        </p:nvPicPr>
        <p:blipFill>
          <a:blip r:embed="rId3"/>
          <a:stretch/>
        </p:blipFill>
        <p:spPr>
          <a:xfrm>
            <a:off x="1523880" y="4210200"/>
            <a:ext cx="2221200" cy="1485720"/>
          </a:xfrm>
          <a:prstGeom prst="rect">
            <a:avLst/>
          </a:prstGeom>
          <a:ln w="0">
            <a:noFill/>
          </a:ln>
        </p:spPr>
      </p:pic>
      <p:pic>
        <p:nvPicPr>
          <p:cNvPr id="420" name="Picture 4" descr="images-6.jpg"/>
          <p:cNvPicPr/>
          <p:nvPr/>
        </p:nvPicPr>
        <p:blipFill>
          <a:blip r:embed="rId4"/>
          <a:stretch/>
        </p:blipFill>
        <p:spPr>
          <a:xfrm>
            <a:off x="4656240" y="4309920"/>
            <a:ext cx="2655720" cy="1770120"/>
          </a:xfrm>
          <a:prstGeom prst="rect">
            <a:avLst/>
          </a:prstGeom>
          <a:ln w="0">
            <a:noFill/>
          </a:ln>
        </p:spPr>
      </p:pic>
      <p:pic>
        <p:nvPicPr>
          <p:cNvPr id="421" name="Picture 5" descr="images-8.jpg"/>
          <p:cNvPicPr/>
          <p:nvPr/>
        </p:nvPicPr>
        <p:blipFill>
          <a:blip r:embed="rId5"/>
          <a:stretch/>
        </p:blipFill>
        <p:spPr>
          <a:xfrm>
            <a:off x="6858000" y="4952880"/>
            <a:ext cx="1333440" cy="1650960"/>
          </a:xfrm>
          <a:prstGeom prst="rect">
            <a:avLst/>
          </a:prstGeom>
          <a:ln w="0">
            <a:noFill/>
          </a:ln>
        </p:spPr>
      </p:pic>
      <p:pic>
        <p:nvPicPr>
          <p:cNvPr id="422" name="Picture 6" descr="images-9.jpg"/>
          <p:cNvPicPr/>
          <p:nvPr/>
        </p:nvPicPr>
        <p:blipFill>
          <a:blip r:embed="rId6"/>
          <a:stretch/>
        </p:blipFill>
        <p:spPr>
          <a:xfrm>
            <a:off x="3352680" y="5321160"/>
            <a:ext cx="1905120" cy="1282680"/>
          </a:xfrm>
          <a:prstGeom prst="rect">
            <a:avLst/>
          </a:prstGeom>
          <a:ln w="0">
            <a:noFill/>
          </a:ln>
        </p:spPr>
      </p:pic>
      <p:sp>
        <p:nvSpPr>
          <p:cNvPr id="423" name="TextBox 7"/>
          <p:cNvSpPr/>
          <p:nvPr/>
        </p:nvSpPr>
        <p:spPr>
          <a:xfrm>
            <a:off x="3745080" y="3505320"/>
            <a:ext cx="15127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se are pictures of children learning, also a sculpture, and a sculpture of musical instrum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9:51:08Z</dcterms:created>
  <dc:creator>student</dc:creator>
  <dc:description/>
  <dc:language>en-US</dc:language>
  <cp:lastModifiedBy>student</cp:lastModifiedBy>
  <dcterms:modified xsi:type="dcterms:W3CDTF">2009-11-19T22:07:48Z</dcterms:modified>
  <cp:revision>3</cp:revision>
  <dc:subject/>
  <dc:title>The Humanist Approach</dc:title>
</cp:coreProperties>
</file>