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33E9-4605-4E83-970D-7EFF3F794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1EA7-5D64-4214-A77D-29EC506B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6F81-1A15-4421-BBDB-3278B396A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6BD7-67E2-4F32-82FD-EFE579FB3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3EA1-AA53-4A93-9731-915DDAEA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6D95-705F-4B54-AFC1-FF135184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B81B-5436-4757-B04A-59C477D9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7E07-E57E-4994-9334-AF1DCC73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CD69-4AFF-4080-BEE8-183D9498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166B-2B6F-41E6-AB08-862C4ACD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8505-8915-4D80-8AB1-7A1B0899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4366-33D1-4FA3-864B-B301E8DA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346914-67F1-48CA-9E19-5919FB9FA8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BE5268-A49C-4F6D-B16B-086F0B0BA5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Virtual Muse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Dak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deling themselves on the ancient pas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3" descr="man-in-renaissance-grab-chatting-with-old-woman.png"/>
          <p:cNvPicPr/>
          <p:nvPr/>
        </p:nvPicPr>
        <p:blipFill>
          <a:blip r:embed="rId1"/>
          <a:srcRect l="-53076" t="0" r="-53076" b="0"/>
          <a:stretch/>
        </p:blipFill>
        <p:spPr>
          <a:xfrm>
            <a:off x="-1143000" y="1417680"/>
            <a:ext cx="5958000" cy="327672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3449880" y="2438280"/>
            <a:ext cx="56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is picture they are learning fashion. The mans  cl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short and almost resembles a tog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68431-300x300.jpg"/>
          <p:cNvPicPr/>
          <p:nvPr/>
        </p:nvPicPr>
        <p:blipFill>
          <a:blip r:embed="rId2"/>
          <a:stretch/>
        </p:blipFill>
        <p:spPr>
          <a:xfrm>
            <a:off x="0" y="42670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grecian32.jpg"/>
          <p:cNvPicPr/>
          <p:nvPr/>
        </p:nvPicPr>
        <p:blipFill>
          <a:blip r:embed="rId3"/>
          <a:stretch/>
        </p:blipFill>
        <p:spPr>
          <a:xfrm>
            <a:off x="6033960" y="3417840"/>
            <a:ext cx="3110040" cy="3440160"/>
          </a:xfrm>
          <a:prstGeom prst="rect">
            <a:avLst/>
          </a:prstGeom>
          <a:ln w="0">
            <a:noFill/>
          </a:ln>
        </p:spPr>
      </p:pic>
      <p:sp>
        <p:nvSpPr>
          <p:cNvPr id="48" name="TextBox 8"/>
          <p:cNvSpPr/>
          <p:nvPr/>
        </p:nvSpPr>
        <p:spPr>
          <a:xfrm>
            <a:off x="3429000" y="3084480"/>
            <a:ext cx="54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Woman's clothing is long and draping like the ancient Greeks cl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2057400" y="44197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le Greek cl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3886200" y="60958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emale Greek cl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ntributing to societ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Canada-Schools.jpg"/>
          <p:cNvPicPr/>
          <p:nvPr/>
        </p:nvPicPr>
        <p:blipFill>
          <a:blip r:embed="rId1"/>
          <a:srcRect l="-18777" t="0" r="-18777" b="0"/>
          <a:stretch/>
        </p:blipFill>
        <p:spPr>
          <a:xfrm>
            <a:off x="-685800" y="1066680"/>
            <a:ext cx="4987800" cy="274320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3945240" y="1417680"/>
            <a:ext cx="502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think that they contributed to society by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school the education they had gained made it 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ld grow up and build more houses or become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acher to help the socie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a individu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mportance of being an individual, is being yourself, and not letting any one else tell you otherwise. You can have your own beliefs, views, and styl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importance of lear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3" descr="school.png"/>
          <p:cNvPicPr/>
          <p:nvPr/>
        </p:nvPicPr>
        <p:blipFill>
          <a:blip r:embed="rId1"/>
          <a:srcRect l="-18184" t="0" r="-18184" b="0"/>
          <a:stretch/>
        </p:blipFill>
        <p:spPr>
          <a:xfrm>
            <a:off x="-609480" y="1417680"/>
            <a:ext cx="5319720" cy="292572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3809880" y="213372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arning is very important to the peopl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naissance. They hired scholars to teach the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ildren. Scholars taught mathematics, sc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Ancient Hist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Picture 3.png"/>
          <p:cNvPicPr/>
          <p:nvPr/>
        </p:nvPicPr>
        <p:blipFill>
          <a:blip r:embed="rId2"/>
          <a:stretch/>
        </p:blipFill>
        <p:spPr>
          <a:xfrm>
            <a:off x="6654960" y="3098880"/>
            <a:ext cx="2489040" cy="3759120"/>
          </a:xfrm>
          <a:prstGeom prst="rect">
            <a:avLst/>
          </a:prstGeom>
          <a:ln w="0">
            <a:noFill/>
          </a:ln>
        </p:spPr>
      </p:pic>
      <p:sp>
        <p:nvSpPr>
          <p:cNvPr id="60" name="TextBox 7"/>
          <p:cNvSpPr/>
          <p:nvPr/>
        </p:nvSpPr>
        <p:spPr>
          <a:xfrm>
            <a:off x="1886400" y="5334120"/>
            <a:ext cx="491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is Francesco Petrarch he is a humanist scho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20:09:24Z</dcterms:created>
  <dc:creator>student</dc:creator>
  <dc:description/>
  <dc:language>en-US</dc:language>
  <cp:lastModifiedBy>student</cp:lastModifiedBy>
  <dcterms:modified xsi:type="dcterms:W3CDTF">2009-11-19T07:29:08Z</dcterms:modified>
  <cp:revision>2</cp:revision>
  <dc:subject/>
  <dc:title>My Virtual Museum</dc:title>
</cp:coreProperties>
</file>