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F03-310D-4FF4-A6E4-5D1E8BB2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F1C-41E4-456D-AD03-BB90C5C0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4C3-9CF7-4795-BFD3-072E2DF0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6CE-9DD5-4E4B-8D82-27E7D13B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475-DC00-4090-8E62-6F123234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151-8935-48EA-94DA-A2328A87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E7C-2CAE-40AD-9C1E-0DFCDB67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1E4-6C7E-4E8F-9C61-3641645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16E-14CA-49A4-B185-58029549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AA1-65A0-4BC3-BCC1-FA16D3C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7D8-688B-428F-97AB-95495186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E08-755D-4976-82A6-20A31CDB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2B41A-9F32-4C29-BDE3-E81F1089F2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87C54-B838-4FA7-8389-1517CF7E2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Virtual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Dak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n-in-renaissance-grab-chatting-with-old-woman.png"/>
          <p:cNvPicPr/>
          <p:nvPr/>
        </p:nvPicPr>
        <p:blipFill>
          <a:blip r:embed="rId1"/>
          <a:srcRect l="-53076" t="0" r="-53076" b="0"/>
          <a:stretch/>
        </p:blipFill>
        <p:spPr>
          <a:xfrm>
            <a:off x="-1143000" y="1417680"/>
            <a:ext cx="5958000" cy="3276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449880" y="24382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picture they are learning fashion. The mans 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hort and almost resembles a to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68431-300x300.jpg"/>
          <p:cNvPicPr/>
          <p:nvPr/>
        </p:nvPicPr>
        <p:blipFill>
          <a:blip r:embed="rId2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recian32.jpg"/>
          <p:cNvPicPr/>
          <p:nvPr/>
        </p:nvPicPr>
        <p:blipFill>
          <a:blip r:embed="rId3"/>
          <a:stretch/>
        </p:blipFill>
        <p:spPr>
          <a:xfrm>
            <a:off x="6033960" y="3417840"/>
            <a:ext cx="3110040" cy="3440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429000" y="3084480"/>
            <a:ext cx="54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oman's clothing is long and draping like the ancient Greeks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0574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8862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ributing to soci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Canada-Schools.jpg"/>
          <p:cNvPicPr/>
          <p:nvPr/>
        </p:nvPicPr>
        <p:blipFill>
          <a:blip r:embed="rId1"/>
          <a:srcRect l="-18777" t="0" r="-18777" b="0"/>
          <a:stretch/>
        </p:blipFill>
        <p:spPr>
          <a:xfrm>
            <a:off x="-685800" y="1066680"/>
            <a:ext cx="49878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45240" y="141768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ink that they contributed to society by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chool the education they had gained made it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grow up and build more houses or becom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to help the soci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a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ortance of being an individual, is being yourself, and not letting any one else tell you otherwise. You can have your own beliefs, views, and sty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chool.pn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-609480" y="1417680"/>
            <a:ext cx="531972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809880" y="2133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ing is very important to the peop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aissance. They hired scholars to teach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. Scholars taught mathematics,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ncient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ure 3.png"/>
          <p:cNvPicPr/>
          <p:nvPr/>
        </p:nvPicPr>
        <p:blipFill>
          <a:blip r:embed="rId2"/>
          <a:stretch/>
        </p:blipFill>
        <p:spPr>
          <a:xfrm>
            <a:off x="6654960" y="3098880"/>
            <a:ext cx="2489040" cy="37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1886400" y="533412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Francesco Petrarch he is a humanist sch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0:09:24Z</dcterms:created>
  <dc:creator>student</dc:creator>
  <dc:description/>
  <dc:language>en-US</dc:language>
  <cp:lastModifiedBy>student</cp:lastModifiedBy>
  <dcterms:modified xsi:type="dcterms:W3CDTF">2009-11-19T07:29:08Z</dcterms:modified>
  <cp:revision>2</cp:revision>
  <dc:subject/>
  <dc:title>My Virtual Museum</dc:title>
</cp:coreProperties>
</file>